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EBCB-6E0D-4708-ABF1-87D1B1DB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EFBD-9049-4D8B-9097-B8C9CD8B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0EB1-80B0-44E9-90B6-D4DD5C82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9B48-BB79-498D-A8C6-89A47A8E3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038-C97D-410E-94F6-035CB2CA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CE1-F4F3-48BD-A42B-EC9DAAF1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C62-1CCC-47E4-A18C-6EE5F848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999-BB1E-454E-8D62-58461321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3F1-A3C5-4F38-A781-1292BED2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F7F4-BA3D-4CA0-ACB8-147F2733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3CD3-6320-4C27-B814-22CACCD5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AF3-AEA0-4146-A36B-055A1384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A81-0AEB-487A-B788-F27BFEA4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BEF8-0445-43D4-898D-4D1CA09B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E7D-B976-4920-8E0D-4E3E01F2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322-2BFD-497D-9B69-D0C1671B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2DE-2428-4735-9490-8AFE0A2A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FA8-0E0D-43C2-8A08-68B6B4C0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25D-72C8-44EB-8E32-76A1B8D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C64-5C5C-427A-A08F-1D35ABE0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097-1365-4513-8E1C-14D4C25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1B0-CD3C-4FA0-B0A9-2E6B1576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757-5F08-405E-AF3C-1E71C604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987-E1DD-4ECE-A9F1-08E37E4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FFF-271D-4E01-9088-671937E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6B8-8C17-4BD9-92A8-980DBD2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3D59-EAA3-4C44-9D45-DCC32BFD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3840" y="104760"/>
            <a:ext cx="5819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4005c"/>
                </a:solidFill>
                <a:latin typeface="Arial"/>
              </a:rPr>
              <a:t>LINUX SYSTEM ADMINISTR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Creating a new Use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n entry in /etc/passwd and /etc/shadow file (use next uid and suitable gid). You will have to create the user directory and assign a password to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useradd or adduser command to create a new user (useradd –g &lt;group&gt; -d &lt;home directory&gt; -c &lt;comment&gt; -s &lt;shell&gt; login-name) and groupadd to create a new group (groupadd group-name). You will have to assign a password (passwd login-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UI: Applications </a:t>
            </a:r>
            <a:r>
              <a:rPr b="1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ystem Settings </a:t>
            </a:r>
            <a:r>
              <a:rPr b="1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ser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/etc/passwd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/etc/passwd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lds user account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luded fields are: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n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Id (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oup Id (g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l Comment about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m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ell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4005c"/>
                </a:solidFill>
                <a:latin typeface="Arial"/>
              </a:rPr>
              <a:t>/etc/shadow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/etc/shadow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ains the encrypted password information for users' accounts and optionally the password aging information. Included field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gin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crypted pass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since Jan 1, 1970 that password was last cha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before password may not be cha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after which password must be cha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before password is to expire that user is war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after password expires that account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since Jan 1, 1970 that account is disabl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Suspending a Use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a * as start of Password field in /etc/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ange login shell to /sbin/no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GUI to suspend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Removing a Use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move login id from /etc/passwd &amp; /etc/shadow file and delete hom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rdel –r &lt;usernam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GUI to Delet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SYS ADMI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906200"/>
            <a:ext cx="8096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etting the Run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ystem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User Manag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etwork Set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cheduling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Quota Manag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Backup and Rest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dding and Removing software/pack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etting a Pri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Monitoring the system (general, lo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Monitoring any specific services running. Eg. DNS, DHCP, Web, NIS, NPT, Proxy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Init Run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906200"/>
            <a:ext cx="8096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The following runlevels are defined in Linux: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0 - halt (Do NOT set initdefault to th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 - Single user m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2 - Multiuser, without Network (The same as 3, i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you do not have networ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3 – Text M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4 - un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5 – Graphical M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6 - reboot (Do NOT set initdefault to th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Init Run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kto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906200"/>
            <a:ext cx="8096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437"/>
              </a:spcBef>
              <a:spcAft>
                <a:spcPts val="1301"/>
              </a:spcAft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The default runlevel for a system to boot to is configured in /etc/inittab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437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d:5:initdefault: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n GUI: Applications </a:t>
            </a:r>
            <a:r>
              <a:rPr b="1" lang="en-US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System Settings </a:t>
            </a:r>
            <a:r>
              <a:rPr b="1" lang="en-US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Server Settings</a:t>
            </a:r>
            <a:r>
              <a:rPr b="1" lang="en-US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Servi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437"/>
              </a:spcBef>
              <a:spcAft>
                <a:spcPts val="1301"/>
              </a:spcAft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Generally, Linux operates in runlevel 3 or 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7616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There are 113 deamons, Out of them, the following are most widely us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pm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Power Managem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utof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Automount servi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cron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Periodic Command Schedul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cup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Common Unix Printing Syste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dhc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The DHCP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dovecot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: IMAP (Internet Message Access Protocol) and POP3 (Post Office Protocol)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gpm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Mou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htt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Apache Web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ptable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Kernel based Packet Filtering firewal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kudzu: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Finds new Hard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mysql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MySQL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ame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BIND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etwork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: Network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f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etwork File Sha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fslock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FS file lock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t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TP (Network Time Protocol)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portmap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RPC (Remote Procedure Call) suppor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postgresql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The Postgresql Database Engi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endmail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: Sendmail Mail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mb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amba Network Servi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nm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imple Network Management Protocol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qui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quid Proxy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sh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Open SSH and SFTP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yslog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ystem Logg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xinet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Provides support for telnet, ftp, talk, tftp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ypbin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IS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9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5212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/Stop boot time services in /etc/rc.d/rc3.d or /etc/rc.d/rc5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services startup scripts which start with S will start at boot time and all startup scripts which start with K will not start at boot time. The number after S or K is the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95kudzu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96pcm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56xine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60vsf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ce &lt;service name&gt; start/stop/rest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start, stop or restart a service from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38:13Z</dcterms:created>
  <dc:creator>Mr.Navpreet Singh</dc:creator>
  <dc:description/>
  <dc:language>en-US</dc:language>
  <cp:lastModifiedBy>Hossain Shahriar</cp:lastModifiedBy>
  <dcterms:modified xsi:type="dcterms:W3CDTF">2017-12-06T17:30:34Z</dcterms:modified>
  <cp:revision>21</cp:revision>
  <dc:subject/>
  <dc:title>Slide 1</dc:title>
</cp:coreProperties>
</file>