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911400" y="-360"/>
            <a:ext cx="293364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7720" y="679320"/>
            <a:ext cx="4629240" cy="34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2880" y="4376520"/>
            <a:ext cx="5038920" cy="40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8678520"/>
            <a:ext cx="30081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11400" y="8678520"/>
            <a:ext cx="293364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DA5D343-C1D7-4306-AAC6-E7FE5A00D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11760" y="8678880"/>
            <a:ext cx="2933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4EA232D-9E32-4076-B894-AFCD40675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808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2880" y="4376520"/>
            <a:ext cx="5038920" cy="40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11760" y="8678880"/>
            <a:ext cx="2933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13F0701-90B8-43A4-8AEA-7219E6E1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6640" y="6793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99640" y="4373640"/>
            <a:ext cx="5038920" cy="40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BE9-91DD-4596-A70C-C3D13C91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B7D-83E5-410D-ACD1-2940A474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FE8-D5DB-4C07-85F5-81EAAE99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7CF-461B-4576-A650-FCA2C372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578C4-1450-44E4-BFB7-B50F32C36A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491D8-A3D4-47AC-80DF-BED8759EA9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CABDB-0C64-4E21-A250-4CEE24A4A9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91912-5D11-4F1A-AFA4-0DA495CD81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3F56C-3F4B-4415-9520-2D1E3E5FBE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C87B8-2974-4B8B-A4BE-28D9839DEC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51494-F9A1-4E8D-86A4-79A825292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D8A-04E0-4A58-8C7A-26FC9831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66A4E-6486-4F25-897E-50E0DDCD7E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09CAC-F5CD-48E6-B61F-E1D9B4FE0B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10F86-9922-4862-A71D-7A5D574EDC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49F4C-1132-443F-9314-5286623276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DB74B-9613-4349-885C-237763318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137-0DB6-45B5-8EB3-73520F48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004-C1CC-4104-B0E0-AC3EA364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04D-2009-4899-983E-04ECA7D9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891-95D9-476F-85A5-86FCCD6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18E-8406-4CF6-87C2-B0B0EF0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EF9-EA77-4BE1-B948-5499C39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B09-85EE-4EB9-8A62-FD949C2E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C9F5-2420-4382-9000-87997034482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6EF4-F0A6-4B15-B873-0AC4B807CDFD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Arial"/>
              </a:rPr>
              <a:t>IP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old way: Internet Address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80880" y="42670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2"/>
          <p:cNvGraphicFramePr/>
          <p:nvPr/>
        </p:nvGraphicFramePr>
        <p:xfrm>
          <a:off x="152280" y="1752480"/>
          <a:ext cx="88203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820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80880" y="42670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0" y="1523880"/>
          <a:ext cx="8823240" cy="26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823240" cy="26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old way: Internet Address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1920" y="457164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learn about multicast addresses later in this cours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blems with Classful IP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19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riginal classful address scheme had a number of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 1.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 Too few network addresses for large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A and Class B addresses are g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 2.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Two-layer hierarchy is not appropriate for large networks with Class A and Class B addre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x #1: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bn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blems with Classful IP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19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 3.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 Inflexibl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sume a company requires 2,000 addre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A and B addresses are overk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C address is insufficient (requires 8 Class C addres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x #2: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less Interdomain Routing (CID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blems with Classful IP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19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 4: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 Exploding Routing Tabl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outing on the backbone Internet needs to have an entry for each network address. In 1993, the size of the routing tables started to outgrow the capacity of route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x #2: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less Interdomain Routing (CID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blems with Classful IP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 5.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 The Internet is going to outgrow the 32-bit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x #3:</a:t>
            </a: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P Version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284040" y="5181480"/>
            <a:ext cx="7696080" cy="1219320"/>
            <a:chOff x="284040" y="5181480"/>
            <a:chExt cx="7696080" cy="1219320"/>
          </a:xfrm>
        </p:grpSpPr>
        <p:grpSp>
          <p:nvGrpSpPr>
            <p:cNvPr id="154" name="Group 3"/>
            <p:cNvGrpSpPr/>
            <p:nvPr/>
          </p:nvGrpSpPr>
          <p:grpSpPr>
            <a:xfrm>
              <a:off x="284040" y="5181480"/>
              <a:ext cx="5562360" cy="1219320"/>
              <a:chOff x="284040" y="5181480"/>
              <a:chExt cx="5562360" cy="1219320"/>
            </a:xfrm>
          </p:grpSpPr>
          <p:sp>
            <p:nvSpPr>
              <p:cNvPr id="155" name="Rectangle 4"/>
              <p:cNvSpPr/>
              <p:nvPr/>
            </p:nvSpPr>
            <p:spPr>
              <a:xfrm>
                <a:off x="284040" y="5181480"/>
                <a:ext cx="4267080" cy="12193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utoShape 5"/>
              <p:cNvSpPr/>
              <p:nvPr/>
            </p:nvSpPr>
            <p:spPr>
              <a:xfrm>
                <a:off x="4703400" y="5790960"/>
                <a:ext cx="1143000" cy="2286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Text Box 6"/>
            <p:cNvSpPr/>
            <p:nvPr/>
          </p:nvSpPr>
          <p:spPr>
            <a:xfrm>
              <a:off x="5922720" y="56386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ubnet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net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640" y="13712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2100" spc="-1" strike="noStrike">
                <a:solidFill>
                  <a:srgbClr val="ed7d31"/>
                </a:solidFill>
                <a:latin typeface="Calibri"/>
              </a:rPr>
              <a:t>: Organizations have multiple networks which are independently manage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lution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llocate a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ddress for eac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icult to man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the outside of the organization, each network must be addressable ie have an identifiable addr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lution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another level of hierarchy to the IP addressing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4343400" y="1371600"/>
            <a:ext cx="4572000" cy="3124080"/>
          </a:xfrm>
          <a:prstGeom prst="ellipse">
            <a:avLst/>
          </a:prstGeom>
          <a:solidFill>
            <a:srgbClr val="0563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niversity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6705720" y="2362320"/>
            <a:ext cx="1904760" cy="990360"/>
          </a:xfrm>
          <a:prstGeom prst="ellipse">
            <a:avLst/>
          </a:prstGeom>
          <a:gradFill rotWithShape="0">
            <a:gsLst>
              <a:gs pos="0">
                <a:srgbClr val="0563c1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5791320" y="3276720"/>
            <a:ext cx="1904760" cy="990360"/>
          </a:xfrm>
          <a:prstGeom prst="ellipse">
            <a:avLst/>
          </a:prstGeom>
          <a:gradFill rotWithShape="0">
            <a:gsLst>
              <a:gs pos="0">
                <a:srgbClr val="0563c1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495680" y="2286000"/>
            <a:ext cx="1905120" cy="990720"/>
          </a:xfrm>
          <a:prstGeom prst="ellipse">
            <a:avLst/>
          </a:prstGeom>
          <a:gradFill rotWithShape="0">
            <a:gsLst>
              <a:gs pos="0">
                <a:srgbClr val="0563c1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990720" y="5334120"/>
            <a:ext cx="6781680" cy="99036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asic Idea of Subnet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19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plit the host number portion of an IP address into a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ubnet numbe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nd a (smaller)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host number</a:t>
            </a:r>
            <a:r>
              <a:rPr b="0" lang="en-US" sz="2100" spc="-1" strike="noStrike">
                <a:solidFill>
                  <a:srgbClr val="ed7d31"/>
                </a:solidFill>
                <a:latin typeface="Calibri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sult is a 3-layer hierarch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Then: 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nets can be freely assigned within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ly, subnets are treated as separat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net structure is not visible outside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295280" y="2666880"/>
            <a:ext cx="3048120" cy="533520"/>
          </a:xfrm>
          <a:prstGeom prst="rect">
            <a:avLst/>
          </a:prstGeom>
          <a:solidFill>
            <a:srgbClr val="0563c1"/>
          </a:solidFill>
          <a:ln w="0">
            <a:noFill/>
          </a:ln>
          <a:effectLst>
            <a:outerShdw dist="17819" dir="2700000" blurRad="0" rotWithShape="0">
              <a:srgbClr val="7a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twork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419720" y="2666880"/>
            <a:ext cx="4190760" cy="533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19720" y="3809880"/>
            <a:ext cx="20574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ne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295280" y="3809880"/>
            <a:ext cx="3048120" cy="533520"/>
          </a:xfrm>
          <a:prstGeom prst="rect">
            <a:avLst/>
          </a:prstGeom>
          <a:solidFill>
            <a:srgbClr val="0563c1"/>
          </a:solidFill>
          <a:ln w="0">
            <a:noFill/>
          </a:ln>
          <a:effectLst>
            <a:outerShdw dist="17819" dir="2700000" blurRad="0" rotWithShape="0">
              <a:srgbClr val="7a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twork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6553080" y="3809880"/>
            <a:ext cx="20574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5866920" y="3276720"/>
            <a:ext cx="6858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6553080" y="3276720"/>
            <a:ext cx="6858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1295280" y="449568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981080" y="44956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ed network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net Mas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outers and hosts use an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extended network prefix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subnet mask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identify the start of the host nu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different ways of subnetting. Commonly used netmasks for university networks with /16 prefix (Class B) are 255.255.255.0 and 255.255.0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154080" y="2332080"/>
          <a:ext cx="882324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332080"/>
                    <a:ext cx="88232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Example of a Subnetting Plan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Cloud 3"/>
          <p:cNvSpPr/>
          <p:nvPr/>
        </p:nvSpPr>
        <p:spPr>
          <a:xfrm>
            <a:off x="-1430280" y="1341360"/>
            <a:ext cx="4419720" cy="2057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3081240" y="1311120"/>
            <a:ext cx="6035760" cy="4710240"/>
          </a:xfrm>
          <a:prstGeom prst="ellipse">
            <a:avLst/>
          </a:prstGeom>
          <a:solidFill>
            <a:srgbClr val="cc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327400" y="358776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Straight Arrow Connector 7"/>
          <p:cNvCxnSpPr>
            <a:endCxn id="183" idx="1"/>
          </p:cNvCxnSpPr>
          <p:nvPr/>
        </p:nvCxnSpPr>
        <p:spPr>
          <a:xfrm>
            <a:off x="2061720" y="3099960"/>
            <a:ext cx="266040" cy="67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Oval 8"/>
          <p:cNvSpPr/>
          <p:nvPr/>
        </p:nvSpPr>
        <p:spPr>
          <a:xfrm>
            <a:off x="4676760" y="1835280"/>
            <a:ext cx="2247840" cy="67464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4386240" y="2678040"/>
            <a:ext cx="4619520" cy="21402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4772160" y="4897440"/>
            <a:ext cx="2400120" cy="59364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027320" y="3673440"/>
            <a:ext cx="559080" cy="423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Straight Arrow Connector 13"/>
          <p:cNvCxnSpPr>
            <a:stCxn id="183" idx="3"/>
          </p:cNvCxnSpPr>
          <p:nvPr/>
        </p:nvCxnSpPr>
        <p:spPr>
          <a:xfrm flipV="1">
            <a:off x="3241800" y="2504880"/>
            <a:ext cx="2442240" cy="127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Straight Arrow Connector 15"/>
          <p:cNvCxnSpPr/>
          <p:nvPr/>
        </p:nvCxnSpPr>
        <p:spPr>
          <a:xfrm>
            <a:off x="3257640" y="3811320"/>
            <a:ext cx="7084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Straight Arrow Connector 17"/>
          <p:cNvCxnSpPr/>
          <p:nvPr/>
        </p:nvCxnSpPr>
        <p:spPr>
          <a:xfrm>
            <a:off x="3249720" y="3860640"/>
            <a:ext cx="1381680" cy="13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Straight Arrow Connector 22"/>
          <p:cNvCxnSpPr>
            <a:stCxn id="188" idx="3"/>
            <a:endCxn id="193" idx="2"/>
          </p:cNvCxnSpPr>
          <p:nvPr/>
        </p:nvCxnSpPr>
        <p:spPr>
          <a:xfrm>
            <a:off x="4586400" y="3885840"/>
            <a:ext cx="1124640" cy="61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Oval 23"/>
          <p:cNvSpPr/>
          <p:nvPr/>
        </p:nvSpPr>
        <p:spPr>
          <a:xfrm>
            <a:off x="5692680" y="3156120"/>
            <a:ext cx="1844640" cy="61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25"/>
          <p:cNvSpPr/>
          <p:nvPr/>
        </p:nvSpPr>
        <p:spPr>
          <a:xfrm>
            <a:off x="5710320" y="4278240"/>
            <a:ext cx="1827000" cy="452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7"/>
          <p:cNvSpPr/>
          <p:nvPr/>
        </p:nvSpPr>
        <p:spPr>
          <a:xfrm>
            <a:off x="4586040" y="6326280"/>
            <a:ext cx="3441960" cy="459720"/>
          </a:xfrm>
          <a:prstGeom prst="rect">
            <a:avLst/>
          </a:prstGeom>
          <a:solidFill>
            <a:srgbClr val="cc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Network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8.4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28"/>
          <p:cNvSpPr/>
          <p:nvPr/>
        </p:nvSpPr>
        <p:spPr>
          <a:xfrm>
            <a:off x="4604760" y="1461960"/>
            <a:ext cx="2391840" cy="45972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ne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28.4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0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29"/>
          <p:cNvSpPr/>
          <p:nvPr/>
        </p:nvSpPr>
        <p:spPr>
          <a:xfrm>
            <a:off x="5288760" y="2792520"/>
            <a:ext cx="2392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ne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28.4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7030a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30"/>
          <p:cNvSpPr/>
          <p:nvPr/>
        </p:nvSpPr>
        <p:spPr>
          <a:xfrm>
            <a:off x="5791680" y="3884760"/>
            <a:ext cx="2648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ne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28.4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7030a0"/>
                </a:solidFill>
                <a:latin typeface="Times New Roman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31"/>
          <p:cNvSpPr/>
          <p:nvPr/>
        </p:nvSpPr>
        <p:spPr>
          <a:xfrm>
            <a:off x="4782600" y="5443560"/>
            <a:ext cx="2391840" cy="45972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ne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28.4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0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640800" y="4667400"/>
            <a:ext cx="3501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work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8.4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0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Straight Arrow Connector 42"/>
          <p:cNvCxnSpPr/>
          <p:nvPr/>
        </p:nvCxnSpPr>
        <p:spPr>
          <a:xfrm flipV="1">
            <a:off x="4158720" y="4291920"/>
            <a:ext cx="64692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Straight Arrow Connector 59"/>
          <p:cNvCxnSpPr>
            <a:stCxn id="194" idx="2"/>
            <a:endCxn id="188" idx="3"/>
          </p:cNvCxnSpPr>
          <p:nvPr/>
        </p:nvCxnSpPr>
        <p:spPr>
          <a:xfrm flipH="1">
            <a:off x="4585680" y="3460680"/>
            <a:ext cx="1107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3" name="TextBox 1"/>
          <p:cNvSpPr/>
          <p:nvPr/>
        </p:nvSpPr>
        <p:spPr>
          <a:xfrm>
            <a:off x="187200" y="564048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bytes available for subn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Straight Arrow Connector 4"/>
          <p:cNvCxnSpPr/>
          <p:nvPr/>
        </p:nvCxnSpPr>
        <p:spPr>
          <a:xfrm>
            <a:off x="4257360" y="6032160"/>
            <a:ext cx="30517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TextBox 8"/>
          <p:cNvSpPr/>
          <p:nvPr/>
        </p:nvSpPr>
        <p:spPr>
          <a:xfrm>
            <a:off x="7051680" y="239076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31"/>
          <p:cNvSpPr/>
          <p:nvPr/>
        </p:nvSpPr>
        <p:spPr>
          <a:xfrm>
            <a:off x="7488360" y="4314960"/>
            <a:ext cx="15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3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P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ructure of an IP addr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bnet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ID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P Version 6 addre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vantages of Subnetting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subnetting, IP addresses use a 3-layer hierarchy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etwork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ubne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o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proves efficiency of IP addresses by not consuming an entire address space for each physical network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duces router complexity. Since external routers do not know about subnetting, the complexity of routing tables at external routers is reduce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: Length of the subnet mask need not be identical at all subnetwork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Subnetting Example: Arg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0" name="Content Placeholder 5" descr=""/>
          <p:cNvPicPr/>
          <p:nvPr/>
        </p:nvPicPr>
        <p:blipFill>
          <a:blip r:embed="rId1"/>
          <a:srcRect l="0" t="337" r="0" b="0"/>
          <a:stretch/>
        </p:blipFill>
        <p:spPr>
          <a:xfrm>
            <a:off x="779400" y="1022400"/>
            <a:ext cx="75834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Network without subne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2" name="Content Placeholder 3" descr=""/>
          <p:cNvPicPr/>
          <p:nvPr/>
        </p:nvPicPr>
        <p:blipFill>
          <a:blip r:embed="rId1"/>
          <a:stretch/>
        </p:blipFill>
        <p:spPr>
          <a:xfrm>
            <a:off x="1860480" y="3075120"/>
            <a:ext cx="5423040" cy="18525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3562560" y="4572000"/>
            <a:ext cx="2018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.143.0.0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Same Network with Subne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rcRect l="0" t="0" r="-219" b="0"/>
          <a:stretch/>
        </p:blipFill>
        <p:spPr>
          <a:xfrm>
            <a:off x="604800" y="1828800"/>
            <a:ext cx="7485120" cy="42084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2"/>
          <p:cNvSpPr/>
          <p:nvPr/>
        </p:nvSpPr>
        <p:spPr>
          <a:xfrm>
            <a:off x="914400" y="31240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5"/>
          <p:cNvSpPr/>
          <p:nvPr/>
        </p:nvSpPr>
        <p:spPr>
          <a:xfrm>
            <a:off x="3886200" y="5486400"/>
            <a:ext cx="53352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6"/>
          <p:cNvSpPr/>
          <p:nvPr/>
        </p:nvSpPr>
        <p:spPr>
          <a:xfrm>
            <a:off x="2743200" y="31240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7"/>
          <p:cNvSpPr/>
          <p:nvPr/>
        </p:nvSpPr>
        <p:spPr>
          <a:xfrm>
            <a:off x="4724280" y="3149640"/>
            <a:ext cx="762120" cy="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traight Connector 8"/>
          <p:cNvSpPr/>
          <p:nvPr/>
        </p:nvSpPr>
        <p:spPr>
          <a:xfrm>
            <a:off x="6477120" y="3149640"/>
            <a:ext cx="761760" cy="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2362320" y="482616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10"/>
          <p:cNvSpPr/>
          <p:nvPr/>
        </p:nvSpPr>
        <p:spPr>
          <a:xfrm>
            <a:off x="5334120" y="4800600"/>
            <a:ext cx="761760" cy="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Same network with different subnetmas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4" name="Content Placeholder 3" descr=""/>
          <p:cNvPicPr/>
          <p:nvPr/>
        </p:nvPicPr>
        <p:blipFill>
          <a:blip r:embed="rId1"/>
          <a:stretch/>
        </p:blipFill>
        <p:spPr>
          <a:xfrm>
            <a:off x="1860480" y="3075120"/>
            <a:ext cx="5423040" cy="185256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2"/>
          <p:cNvSpPr/>
          <p:nvPr/>
        </p:nvSpPr>
        <p:spPr>
          <a:xfrm>
            <a:off x="716292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"/>
          <p:cNvSpPr/>
          <p:nvPr/>
        </p:nvSpPr>
        <p:spPr>
          <a:xfrm>
            <a:off x="510552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6"/>
          <p:cNvSpPr/>
          <p:nvPr/>
        </p:nvSpPr>
        <p:spPr>
          <a:xfrm>
            <a:off x="579132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7"/>
          <p:cNvSpPr/>
          <p:nvPr/>
        </p:nvSpPr>
        <p:spPr>
          <a:xfrm>
            <a:off x="1447920" y="28954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4"/>
          <p:cNvSpPr/>
          <p:nvPr/>
        </p:nvSpPr>
        <p:spPr>
          <a:xfrm>
            <a:off x="457200" y="2895480"/>
            <a:ext cx="83808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12"/>
          <p:cNvSpPr/>
          <p:nvPr/>
        </p:nvSpPr>
        <p:spPr>
          <a:xfrm>
            <a:off x="1714680" y="4970520"/>
            <a:ext cx="10285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13"/>
          <p:cNvSpPr/>
          <p:nvPr/>
        </p:nvSpPr>
        <p:spPr>
          <a:xfrm>
            <a:off x="2590920" y="2895480"/>
            <a:ext cx="99036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14"/>
          <p:cNvSpPr/>
          <p:nvPr/>
        </p:nvSpPr>
        <p:spPr>
          <a:xfrm>
            <a:off x="3543480" y="4960800"/>
            <a:ext cx="990360" cy="97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traight Connector 15"/>
          <p:cNvSpPr/>
          <p:nvPr/>
        </p:nvSpPr>
        <p:spPr>
          <a:xfrm>
            <a:off x="16002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16"/>
          <p:cNvSpPr/>
          <p:nvPr/>
        </p:nvSpPr>
        <p:spPr>
          <a:xfrm>
            <a:off x="3733920" y="2895480"/>
            <a:ext cx="533160" cy="0"/>
          </a:xfrm>
          <a:prstGeom prst="line">
            <a:avLst/>
          </a:prstGeom>
          <a:ln w="381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2743200" y="4970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18"/>
          <p:cNvSpPr/>
          <p:nvPr/>
        </p:nvSpPr>
        <p:spPr>
          <a:xfrm>
            <a:off x="4572000" y="4970520"/>
            <a:ext cx="685800" cy="0"/>
          </a:xfrm>
          <a:prstGeom prst="line">
            <a:avLst/>
          </a:prstGeom>
          <a:ln w="381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3009960" y="5562720"/>
            <a:ext cx="1257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Cloud 21"/>
          <p:cNvSpPr/>
          <p:nvPr/>
        </p:nvSpPr>
        <p:spPr>
          <a:xfrm>
            <a:off x="1295280" y="3776760"/>
            <a:ext cx="4077000" cy="2209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38160">
            <a:solidFill>
              <a:srgbClr val="2e75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23"/>
          <p:cNvSpPr/>
          <p:nvPr/>
        </p:nvSpPr>
        <p:spPr>
          <a:xfrm>
            <a:off x="2756520" y="395460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.143.137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26"/>
          <p:cNvSpPr/>
          <p:nvPr/>
        </p:nvSpPr>
        <p:spPr>
          <a:xfrm>
            <a:off x="2840040" y="4246560"/>
            <a:ext cx="10285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nett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19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rganization with 4 departements has the following IP address space: 10.2.22.0/23. As the systems manager, you are required to create subnets to accommodate the IT needs of 4 departments. The subnets have to support to 200, 61, 55, and 41 hosts respectively. What are the 4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subnet network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umbers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0.2.2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/24 (256 addresses &gt; 2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10.2.2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ff99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26 (64 addresses &gt;6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10.2.2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8585e0"/>
                </a:solidFill>
                <a:latin typeface="Calibri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26 (64 addresses &gt; 5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10.2.2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92d050"/>
                </a:solidFill>
                <a:latin typeface="Calibri"/>
              </a:rPr>
              <a:t>12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26 (64 addresses &gt; 4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IDR - Classless Interdomain Rou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P backbone routers have one routing table entry for each network addres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ubnetting, a backbone router only needs to know one entry for each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acceptable for Class A and Class B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2</a:t>
            </a:r>
            <a:r>
              <a:rPr b="0" lang="en-US" sz="2000" spc="-1" strike="noStrike" baseline="30000">
                <a:solidFill>
                  <a:srgbClr val="ed7d31"/>
                </a:solidFill>
                <a:latin typeface="Calibri"/>
              </a:rPr>
              <a:t>7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 = 128 Class A network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2</a:t>
            </a:r>
            <a:r>
              <a:rPr b="0" lang="en-US" sz="2000" spc="-1" strike="noStrike" baseline="30000">
                <a:solidFill>
                  <a:srgbClr val="ed7d31"/>
                </a:solidFill>
                <a:latin typeface="Calibri"/>
              </a:rPr>
              <a:t>14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 = 16,384 Class B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Calibri"/>
              </a:rPr>
              <a:t>But this is not acceptable for Class C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2</a:t>
            </a:r>
            <a:r>
              <a:rPr b="0" lang="en-US" sz="2000" spc="-1" strike="noStrike" baseline="30000">
                <a:solidFill>
                  <a:srgbClr val="ed7d31"/>
                </a:solidFill>
                <a:latin typeface="Calibri"/>
              </a:rPr>
              <a:t>21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 =  2,097,152 Class C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1993, the size of the routing tables started to outgrow the capacity of rou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equence: The Class-based assignment of IP addresses had to be abandone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IDR - Classless Interdomain Rou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192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Goal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tructure IP address assignments to increase effici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erarchical routing aggregation to minimize route table en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Key Concept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ed7d31"/>
                </a:solidFill>
                <a:latin typeface="Calibri"/>
              </a:rPr>
              <a:t>The length of the network id (prefix) in IP addresses is 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arbitrary/flexible </a:t>
            </a:r>
            <a:r>
              <a:rPr b="0" lang="en-US" sz="2100" spc="-1" strike="noStrike">
                <a:solidFill>
                  <a:srgbClr val="ed7d31"/>
                </a:solidFill>
                <a:latin typeface="Calibri"/>
              </a:rPr>
              <a:t>and is defined by the network hierarchy</a:t>
            </a:r>
            <a:r>
              <a:rPr b="0" lang="en-US" sz="2100" spc="-1" strike="noStrike">
                <a:solidFill>
                  <a:srgbClr val="3333cc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ed7d31"/>
                </a:solidFill>
                <a:latin typeface="Calibri"/>
              </a:rPr>
              <a:t>Consequence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ers use the IP addres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length of the prefix for forwar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advertised IP addresses must include a 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IDR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192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IDR notation of a network address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100" spc="-1" strike="noStrike">
                <a:solidFill>
                  <a:srgbClr val="ed7d31"/>
                </a:solidFill>
                <a:latin typeface="Calibri"/>
              </a:rPr>
              <a:t>192.0.2.0/1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"18" says that the first 18 bits are the network part of the addres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network part is called the network 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prefi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that a site requires an IP network domain that can support 1000 IP host addr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CIDR, the network is assigned a continuous block of 1024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&gt;1000) addresses with a 32-10 = 22-bit long prefi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IDR:  Prefix Size vs. Host Spa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ed7d31"/>
                </a:solidFill>
                <a:latin typeface="Calibri"/>
              </a:rPr>
              <a:t>CIDR Block Prefix                # of Host Addre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27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32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26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64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25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128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24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256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23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512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22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1,024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21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2,048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20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4,096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19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8,192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18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16,384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17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32,768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16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65,536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15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131,072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14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262,144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r" pos="480060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/13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524,288 hos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P Addresses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4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 flipH="1">
            <a:off x="3276720" y="4191120"/>
            <a:ext cx="4952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IDR and Address assign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ackbone ISPs obtain large blocks of IP address space and then reallocate portions of their address blocks to their customer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alibri"/>
              </a:rPr>
              <a:t>Example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sume that an ISP owns the address block </a:t>
            </a:r>
            <a:r>
              <a:rPr b="0" lang="en-US" sz="2100" spc="-1" strike="noStrike">
                <a:solidFill>
                  <a:srgbClr val="ed7d31"/>
                </a:solidFill>
                <a:latin typeface="Calibri"/>
              </a:rPr>
              <a:t>206.0.64.0/18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which represents 16,384 (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32-18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IP host address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ppose a client requires 800 host addre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12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800&lt;1024=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alibri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&gt; 32-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22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ing a /22 block, i.e., 206.0.68.0/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&gt; gives a block of 1,024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IP addresses to cli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9040" y="0"/>
            <a:ext cx="7583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ubnetting and Classless Inter Domain Routing (CIDR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79040" y="1461960"/>
            <a:ext cx="758340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bnetting is done by allocating some of the leading bits of the host number to indicate a subnet number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subnetting, the network prefix and the subnet number make up an extended network prefix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xtended prefix can be expressed in terms of a subnetmask or, using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tation, by adding the length of the extended subnetmask after the IP addr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xample, for Argon, the first byte of the host number (the 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third by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the IP address) is used to denote the 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subnet numbe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Calibri"/>
              </a:rPr>
              <a:t>128.14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.0/16 is the </a:t>
            </a:r>
            <a:r>
              <a:rPr b="0" lang="en-US" sz="1800" spc="-1" strike="noStrike">
                <a:solidFill>
                  <a:srgbClr val="ddf53d"/>
                </a:solidFill>
                <a:latin typeface="Calibri"/>
              </a:rPr>
              <a:t>IP </a:t>
            </a:r>
            <a:r>
              <a:rPr b="0" lang="en-US" sz="1800" spc="-1" strike="noStrike">
                <a:solidFill>
                  <a:srgbClr val="ed7d31"/>
                </a:solidFill>
                <a:latin typeface="Calibri"/>
              </a:rPr>
              <a:t>address of the network (network prefix /16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8.143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13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/24 is th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 address of the subn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128.143.137.144/3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IP address of the 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255.255.255.0 is the subnetmask of the host (or subnet prefix /24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 flipV="1">
            <a:off x="1981080" y="2971800"/>
            <a:ext cx="17528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5562720" y="2057400"/>
            <a:ext cx="175248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715000" y="3505320"/>
            <a:ext cx="152388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7086600" y="4343400"/>
            <a:ext cx="3808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 flipH="1">
            <a:off x="5181480" y="4343400"/>
            <a:ext cx="18288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IDR and Routing Inform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61" name="Group 8"/>
          <p:cNvGrpSpPr/>
          <p:nvPr/>
        </p:nvGrpSpPr>
        <p:grpSpPr>
          <a:xfrm>
            <a:off x="-1216800" y="1619640"/>
            <a:ext cx="4001040" cy="4780800"/>
            <a:chOff x="-1216800" y="1619640"/>
            <a:chExt cx="4001040" cy="4780800"/>
          </a:xfrm>
        </p:grpSpPr>
        <p:sp>
          <p:nvSpPr>
            <p:cNvPr id="262" name="Rectangle 9"/>
            <p:cNvSpPr/>
            <p:nvPr/>
          </p:nvSpPr>
          <p:spPr>
            <a:xfrm flipV="1">
              <a:off x="-609480" y="3567600"/>
              <a:ext cx="287100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rc 10"/>
            <p:cNvSpPr/>
            <p:nvPr/>
          </p:nvSpPr>
          <p:spPr>
            <a:xfrm flipV="1">
              <a:off x="1020960" y="4486680"/>
              <a:ext cx="1554840" cy="1601640"/>
            </a:xfrm>
            <a:custGeom>
              <a:avLst/>
              <a:gdLst>
                <a:gd name="textAreaLeft" fmla="*/ 0 w 1554840"/>
                <a:gd name="textAreaRight" fmla="*/ 1555200 w 1554840"/>
                <a:gd name="textAreaTop" fmla="*/ -360 h 1601640"/>
                <a:gd name="textAreaBottom" fmla="*/ 1601640 h 160164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rc 11"/>
            <p:cNvSpPr/>
            <p:nvPr/>
          </p:nvSpPr>
          <p:spPr>
            <a:xfrm flipV="1">
              <a:off x="-945360" y="4755240"/>
              <a:ext cx="2218320" cy="1644840"/>
            </a:xfrm>
            <a:custGeom>
              <a:avLst/>
              <a:gdLst>
                <a:gd name="textAreaLeft" fmla="*/ 0 w 2218320"/>
                <a:gd name="textAreaRight" fmla="*/ 2218680 w 2218320"/>
                <a:gd name="textAreaTop" fmla="*/ -360 h 1644840"/>
                <a:gd name="textAreaBottom" fmla="*/ 1644840 h 164484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12"/>
            <p:cNvSpPr/>
            <p:nvPr/>
          </p:nvSpPr>
          <p:spPr>
            <a:xfrm flipV="1" rot="5400000">
              <a:off x="-1907640" y="3777840"/>
              <a:ext cx="2363400" cy="680760"/>
            </a:xfrm>
            <a:custGeom>
              <a:avLst/>
              <a:gdLst>
                <a:gd name="textAreaLeft" fmla="*/ 0 w 2363400"/>
                <a:gd name="textAreaRight" fmla="*/ 2363760 w 2363400"/>
                <a:gd name="textAreaTop" fmla="*/ -360 h 680760"/>
                <a:gd name="textAreaBottom" fmla="*/ 680760 h 68076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rc 13"/>
            <p:cNvSpPr/>
            <p:nvPr/>
          </p:nvSpPr>
          <p:spPr>
            <a:xfrm flipV="1" rot="8989200">
              <a:off x="-805320" y="1869840"/>
              <a:ext cx="1387800" cy="2011680"/>
            </a:xfrm>
            <a:custGeom>
              <a:avLst/>
              <a:gdLst>
                <a:gd name="textAreaLeft" fmla="*/ 0 w 1387800"/>
                <a:gd name="textAreaRight" fmla="*/ 1388160 w 1387800"/>
                <a:gd name="textAreaTop" fmla="*/ 360 h 2011680"/>
                <a:gd name="textAreaBottom" fmla="*/ 2012400 h 201168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rc 14"/>
            <p:cNvSpPr/>
            <p:nvPr/>
          </p:nvSpPr>
          <p:spPr>
            <a:xfrm flipV="1" rot="10583400">
              <a:off x="105840" y="1676880"/>
              <a:ext cx="1892160" cy="201204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-360 h 2012040"/>
                <a:gd name="textAreaBottom" fmla="*/ 2012040 h 201204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rc 15"/>
            <p:cNvSpPr/>
            <p:nvPr/>
          </p:nvSpPr>
          <p:spPr>
            <a:xfrm flipV="1" rot="11694600">
              <a:off x="1542240" y="3025800"/>
              <a:ext cx="1047960" cy="1644840"/>
            </a:xfrm>
            <a:custGeom>
              <a:avLst/>
              <a:gdLst>
                <a:gd name="textAreaLeft" fmla="*/ 0 w 1047960"/>
                <a:gd name="textAreaRight" fmla="*/ 1048320 w 1047960"/>
                <a:gd name="textAreaTop" fmla="*/ -360 h 1644840"/>
                <a:gd name="textAreaBottom" fmla="*/ 1644840 h 164484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 flipV="1">
              <a:off x="-478800" y="2622240"/>
              <a:ext cx="234864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7"/>
          <p:cNvGrpSpPr/>
          <p:nvPr/>
        </p:nvGrpSpPr>
        <p:grpSpPr>
          <a:xfrm>
            <a:off x="3352680" y="1460520"/>
            <a:ext cx="3290040" cy="2502000"/>
            <a:chOff x="3352680" y="1460520"/>
            <a:chExt cx="3290040" cy="2502000"/>
          </a:xfrm>
        </p:grpSpPr>
        <p:sp>
          <p:nvSpPr>
            <p:cNvPr id="271" name="Rectangle 18"/>
            <p:cNvSpPr/>
            <p:nvPr/>
          </p:nvSpPr>
          <p:spPr>
            <a:xfrm flipV="1">
              <a:off x="3751920" y="2545920"/>
              <a:ext cx="251208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rc 19"/>
            <p:cNvSpPr/>
            <p:nvPr/>
          </p:nvSpPr>
          <p:spPr>
            <a:xfrm flipV="1">
              <a:off x="5179320" y="3005280"/>
              <a:ext cx="1360440" cy="80100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-360 h 801000"/>
                <a:gd name="textAreaBottom" fmla="*/ 801000 h 80100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rc 20"/>
            <p:cNvSpPr/>
            <p:nvPr/>
          </p:nvSpPr>
          <p:spPr>
            <a:xfrm flipV="1">
              <a:off x="3458160" y="3139560"/>
              <a:ext cx="1941120" cy="82260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-360 h 822600"/>
                <a:gd name="textAreaBottom" fmla="*/ 822600 h 82260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rc 21"/>
            <p:cNvSpPr/>
            <p:nvPr/>
          </p:nvSpPr>
          <p:spPr>
            <a:xfrm flipV="1" rot="5400000">
              <a:off x="3059640" y="2523600"/>
              <a:ext cx="1181880" cy="595800"/>
            </a:xfrm>
            <a:custGeom>
              <a:avLst/>
              <a:gdLst>
                <a:gd name="textAreaLeft" fmla="*/ 0 w 1181880"/>
                <a:gd name="textAreaRight" fmla="*/ 1181880 w 1181880"/>
                <a:gd name="textAreaTop" fmla="*/ -360 h 595800"/>
                <a:gd name="textAreaBottom" fmla="*/ 595800 h 59580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rc 22"/>
            <p:cNvSpPr/>
            <p:nvPr/>
          </p:nvSpPr>
          <p:spPr>
            <a:xfrm flipV="1" rot="8989200">
              <a:off x="3579840" y="1697040"/>
              <a:ext cx="1214280" cy="100584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360 h 1005840"/>
                <a:gd name="textAreaBottom" fmla="*/ 1006560 h 100584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rc 23"/>
            <p:cNvSpPr/>
            <p:nvPr/>
          </p:nvSpPr>
          <p:spPr>
            <a:xfrm flipV="1" rot="10583400">
              <a:off x="4377960" y="1600560"/>
              <a:ext cx="1655640" cy="100584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360 h 1005840"/>
                <a:gd name="textAreaBottom" fmla="*/ 1006560 h 100584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rc 24"/>
            <p:cNvSpPr/>
            <p:nvPr/>
          </p:nvSpPr>
          <p:spPr>
            <a:xfrm flipV="1" rot="11694600">
              <a:off x="5635440" y="2274480"/>
              <a:ext cx="916920" cy="822600"/>
            </a:xfrm>
            <a:custGeom>
              <a:avLst/>
              <a:gdLst>
                <a:gd name="textAreaLeft" fmla="*/ 0 w 916920"/>
                <a:gd name="textAreaRight" fmla="*/ 917280 w 916920"/>
                <a:gd name="textAreaTop" fmla="*/ -360 h 822600"/>
                <a:gd name="textAreaBottom" fmla="*/ 822600 h 82260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25"/>
            <p:cNvSpPr/>
            <p:nvPr/>
          </p:nvSpPr>
          <p:spPr>
            <a:xfrm flipV="1">
              <a:off x="3866400" y="2072880"/>
              <a:ext cx="205524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26"/>
          <p:cNvSpPr/>
          <p:nvPr/>
        </p:nvSpPr>
        <p:spPr>
          <a:xfrm>
            <a:off x="3809880" y="266688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206.0.64.0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204.188.0.0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209.88.232.0/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228600" y="3276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380988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29"/>
          <p:cNvGrpSpPr/>
          <p:nvPr/>
        </p:nvGrpSpPr>
        <p:grpSpPr>
          <a:xfrm>
            <a:off x="6458040" y="1422360"/>
            <a:ext cx="2418840" cy="1493640"/>
            <a:chOff x="6458040" y="1422360"/>
            <a:chExt cx="2418840" cy="1493640"/>
          </a:xfrm>
        </p:grpSpPr>
        <p:sp>
          <p:nvSpPr>
            <p:cNvPr id="283" name="Rectangle 30"/>
            <p:cNvSpPr/>
            <p:nvPr/>
          </p:nvSpPr>
          <p:spPr>
            <a:xfrm flipV="1" rot="16200000">
              <a:off x="7464240" y="1609920"/>
              <a:ext cx="987120" cy="104076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rc 31"/>
            <p:cNvSpPr/>
            <p:nvPr/>
          </p:nvSpPr>
          <p:spPr>
            <a:xfrm flipV="1" rot="16200000">
              <a:off x="8044200" y="1388520"/>
              <a:ext cx="534600" cy="81360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360 h 813600"/>
                <a:gd name="textAreaBottom" fmla="*/ 814320 h 81360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rc 32"/>
            <p:cNvSpPr/>
            <p:nvPr/>
          </p:nvSpPr>
          <p:spPr>
            <a:xfrm flipV="1" rot="16200000">
              <a:off x="8077680" y="1940040"/>
              <a:ext cx="762840" cy="83556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-360 h 835560"/>
                <a:gd name="textAreaBottom" fmla="*/ 835560 h 83556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Arc 33"/>
            <p:cNvSpPr/>
            <p:nvPr/>
          </p:nvSpPr>
          <p:spPr>
            <a:xfrm flipV="1">
              <a:off x="7117920" y="2547000"/>
              <a:ext cx="1200600" cy="23400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360 h 234000"/>
                <a:gd name="textAreaBottom" fmla="*/ 234720 h 23400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rc 34"/>
            <p:cNvSpPr/>
            <p:nvPr/>
          </p:nvSpPr>
          <p:spPr>
            <a:xfrm flipV="1" rot="3588600">
              <a:off x="6848280" y="1941120"/>
              <a:ext cx="477000" cy="102204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-360 h 1022040"/>
                <a:gd name="textAreaBottom" fmla="*/ 1022040 h 102204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rc 35"/>
            <p:cNvSpPr/>
            <p:nvPr/>
          </p:nvSpPr>
          <p:spPr>
            <a:xfrm flipV="1" rot="5182800">
              <a:off x="6663240" y="1540800"/>
              <a:ext cx="650520" cy="1022040"/>
            </a:xfrm>
            <a:custGeom>
              <a:avLst/>
              <a:gdLst>
                <a:gd name="textAreaLeft" fmla="*/ 0 w 650520"/>
                <a:gd name="textAreaRight" fmla="*/ 650520 w 650520"/>
                <a:gd name="textAreaTop" fmla="*/ -360 h 1022040"/>
                <a:gd name="textAreaBottom" fmla="*/ 1022040 h 102204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rc 36"/>
            <p:cNvSpPr/>
            <p:nvPr/>
          </p:nvSpPr>
          <p:spPr>
            <a:xfrm flipV="1" rot="6294000">
              <a:off x="7400160" y="1285560"/>
              <a:ext cx="360360" cy="8355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-360 h 835560"/>
                <a:gd name="textAreaBottom" fmla="*/ 835560 h 83556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 flipV="1" rot="16200000">
              <a:off x="7074000" y="1654920"/>
              <a:ext cx="807480" cy="104076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Text Box 38"/>
          <p:cNvSpPr/>
          <p:nvPr/>
        </p:nvSpPr>
        <p:spPr>
          <a:xfrm>
            <a:off x="6781680" y="182880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 X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206.0.68.0/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39"/>
          <p:cNvGrpSpPr/>
          <p:nvPr/>
        </p:nvGrpSpPr>
        <p:grpSpPr>
          <a:xfrm>
            <a:off x="6534000" y="3251160"/>
            <a:ext cx="2419560" cy="1494000"/>
            <a:chOff x="6534000" y="3251160"/>
            <a:chExt cx="2419560" cy="1494000"/>
          </a:xfrm>
        </p:grpSpPr>
        <p:sp>
          <p:nvSpPr>
            <p:cNvPr id="293" name="Rectangle 40"/>
            <p:cNvSpPr/>
            <p:nvPr/>
          </p:nvSpPr>
          <p:spPr>
            <a:xfrm flipV="1" rot="16200000">
              <a:off x="7540920" y="3438720"/>
              <a:ext cx="987120" cy="104076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rc 41"/>
            <p:cNvSpPr/>
            <p:nvPr/>
          </p:nvSpPr>
          <p:spPr>
            <a:xfrm flipV="1" rot="16200000">
              <a:off x="8120880" y="3217320"/>
              <a:ext cx="534600" cy="81396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-360 h 813960"/>
                <a:gd name="textAreaBottom" fmla="*/ 813960 h 81396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rc 42"/>
            <p:cNvSpPr/>
            <p:nvPr/>
          </p:nvSpPr>
          <p:spPr>
            <a:xfrm flipV="1" rot="16200000">
              <a:off x="8154000" y="3768480"/>
              <a:ext cx="762840" cy="83592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360 h 835920"/>
                <a:gd name="textAreaBottom" fmla="*/ 836640 h 83592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rc 43"/>
            <p:cNvSpPr/>
            <p:nvPr/>
          </p:nvSpPr>
          <p:spPr>
            <a:xfrm flipV="1">
              <a:off x="7193880" y="4375800"/>
              <a:ext cx="1200960" cy="23400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360 h 234000"/>
                <a:gd name="textAreaBottom" fmla="*/ 234720 h 23400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rc 44"/>
            <p:cNvSpPr/>
            <p:nvPr/>
          </p:nvSpPr>
          <p:spPr>
            <a:xfrm flipV="1" rot="3588600">
              <a:off x="6924600" y="3770280"/>
              <a:ext cx="477000" cy="102240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360 h 1022400"/>
                <a:gd name="textAreaBottom" fmla="*/ 1023120 h 102240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Arc 45"/>
            <p:cNvSpPr/>
            <p:nvPr/>
          </p:nvSpPr>
          <p:spPr>
            <a:xfrm flipV="1" rot="5182800">
              <a:off x="6739200" y="3369240"/>
              <a:ext cx="650520" cy="1022400"/>
            </a:xfrm>
            <a:custGeom>
              <a:avLst/>
              <a:gdLst>
                <a:gd name="textAreaLeft" fmla="*/ 0 w 650520"/>
                <a:gd name="textAreaRight" fmla="*/ 650520 w 650520"/>
                <a:gd name="textAreaTop" fmla="*/ 360 h 1022400"/>
                <a:gd name="textAreaBottom" fmla="*/ 1023120 h 102240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Arc 46"/>
            <p:cNvSpPr/>
            <p:nvPr/>
          </p:nvSpPr>
          <p:spPr>
            <a:xfrm flipV="1" rot="6294000">
              <a:off x="7476480" y="3115080"/>
              <a:ext cx="360360" cy="835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360 h 835920"/>
                <a:gd name="textAreaBottom" fmla="*/ 836640 h 83592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 flipV="1" rot="16200000">
              <a:off x="7150680" y="3483720"/>
              <a:ext cx="807480" cy="104076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Text Box 48"/>
          <p:cNvSpPr/>
          <p:nvPr/>
        </p:nvSpPr>
        <p:spPr>
          <a:xfrm>
            <a:off x="6934320" y="3733920"/>
            <a:ext cx="1828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209.88.237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49"/>
          <p:cNvGrpSpPr/>
          <p:nvPr/>
        </p:nvGrpSpPr>
        <p:grpSpPr>
          <a:xfrm>
            <a:off x="3607920" y="5136120"/>
            <a:ext cx="2335680" cy="1493280"/>
            <a:chOff x="3607920" y="5136120"/>
            <a:chExt cx="2335680" cy="1493280"/>
          </a:xfrm>
        </p:grpSpPr>
        <p:sp>
          <p:nvSpPr>
            <p:cNvPr id="303" name="Rectangle 50"/>
            <p:cNvSpPr/>
            <p:nvPr/>
          </p:nvSpPr>
          <p:spPr>
            <a:xfrm flipH="1" flipV="1">
              <a:off x="3864240" y="580716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Arc 51"/>
            <p:cNvSpPr/>
            <p:nvPr/>
          </p:nvSpPr>
          <p:spPr>
            <a:xfrm flipH="1" flipV="1">
              <a:off x="3666960" y="6073920"/>
              <a:ext cx="971640" cy="465120"/>
            </a:xfrm>
            <a:custGeom>
              <a:avLst/>
              <a:gdLst>
                <a:gd name="textAreaLeft" fmla="*/ -360 w 971640"/>
                <a:gd name="textAreaRight" fmla="*/ 971640 w 971640"/>
                <a:gd name="textAreaTop" fmla="*/ 360 h 465120"/>
                <a:gd name="textAreaBottom" fmla="*/ 465840 h 46512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Arc 52"/>
            <p:cNvSpPr/>
            <p:nvPr/>
          </p:nvSpPr>
          <p:spPr>
            <a:xfrm flipH="1" flipV="1">
              <a:off x="4481640" y="6152040"/>
              <a:ext cx="1386360" cy="477360"/>
            </a:xfrm>
            <a:custGeom>
              <a:avLst/>
              <a:gdLst>
                <a:gd name="textAreaLeft" fmla="*/ -360 w 1386360"/>
                <a:gd name="textAreaRight" fmla="*/ 1386360 w 1386360"/>
                <a:gd name="textAreaTop" fmla="*/ 360 h 477360"/>
                <a:gd name="textAreaBottom" fmla="*/ 478080 h 47736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rc 53"/>
            <p:cNvSpPr/>
            <p:nvPr/>
          </p:nvSpPr>
          <p:spPr>
            <a:xfrm flipH="1" flipV="1" rot="16200000">
              <a:off x="5387760" y="5754240"/>
              <a:ext cx="686160" cy="425520"/>
            </a:xfrm>
            <a:custGeom>
              <a:avLst/>
              <a:gdLst>
                <a:gd name="textAreaLeft" fmla="*/ 360 w 686160"/>
                <a:gd name="textAreaRight" fmla="*/ 686880 w 686160"/>
                <a:gd name="textAreaTop" fmla="*/ 360 h 425520"/>
                <a:gd name="textAreaBottom" fmla="*/ 426240 h 42552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rc 54"/>
            <p:cNvSpPr/>
            <p:nvPr/>
          </p:nvSpPr>
          <p:spPr>
            <a:xfrm flipH="1" flipV="1" rot="12610800">
              <a:off x="4913280" y="5313960"/>
              <a:ext cx="867240" cy="583920"/>
            </a:xfrm>
            <a:custGeom>
              <a:avLst/>
              <a:gdLst>
                <a:gd name="textAreaLeft" fmla="*/ -360 w 867240"/>
                <a:gd name="textAreaRight" fmla="*/ 867240 w 867240"/>
                <a:gd name="textAreaTop" fmla="*/ 360 h 583920"/>
                <a:gd name="textAreaBottom" fmla="*/ 584640 h 5839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Arc 55"/>
            <p:cNvSpPr/>
            <p:nvPr/>
          </p:nvSpPr>
          <p:spPr>
            <a:xfrm flipH="1" flipV="1" rot="11016600">
              <a:off x="4028040" y="5258160"/>
              <a:ext cx="1182600" cy="583920"/>
            </a:xfrm>
            <a:custGeom>
              <a:avLst/>
              <a:gdLst>
                <a:gd name="textAreaLeft" fmla="*/ -360 w 1182600"/>
                <a:gd name="textAreaRight" fmla="*/ 1182600 w 1182600"/>
                <a:gd name="textAreaTop" fmla="*/ 360 h 583920"/>
                <a:gd name="textAreaBottom" fmla="*/ 584640 h 5839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rc 56"/>
            <p:cNvSpPr/>
            <p:nvPr/>
          </p:nvSpPr>
          <p:spPr>
            <a:xfrm flipH="1" flipV="1" rot="9905400">
              <a:off x="3657960" y="5649120"/>
              <a:ext cx="654840" cy="477360"/>
            </a:xfrm>
            <a:custGeom>
              <a:avLst/>
              <a:gdLst>
                <a:gd name="textAreaLeft" fmla="*/ 0 w 654840"/>
                <a:gd name="textAreaRight" fmla="*/ 654840 w 654840"/>
                <a:gd name="textAreaTop" fmla="*/ 360 h 477360"/>
                <a:gd name="textAreaBottom" fmla="*/ 478080 h 47736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57"/>
            <p:cNvSpPr/>
            <p:nvPr/>
          </p:nvSpPr>
          <p:spPr>
            <a:xfrm flipH="1" flipV="1">
              <a:off x="4108680" y="553248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Text Box 58"/>
          <p:cNvSpPr/>
          <p:nvPr/>
        </p:nvSpPr>
        <p:spPr>
          <a:xfrm>
            <a:off x="3809880" y="56386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209.88.237.192/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59"/>
          <p:cNvGrpSpPr/>
          <p:nvPr/>
        </p:nvGrpSpPr>
        <p:grpSpPr>
          <a:xfrm>
            <a:off x="6198840" y="5212440"/>
            <a:ext cx="2335680" cy="1493280"/>
            <a:chOff x="6198840" y="5212440"/>
            <a:chExt cx="2335680" cy="1493280"/>
          </a:xfrm>
        </p:grpSpPr>
        <p:sp>
          <p:nvSpPr>
            <p:cNvPr id="313" name="Rectangle 60"/>
            <p:cNvSpPr/>
            <p:nvPr/>
          </p:nvSpPr>
          <p:spPr>
            <a:xfrm flipH="1" flipV="1">
              <a:off x="6455160" y="588348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Arc 61"/>
            <p:cNvSpPr/>
            <p:nvPr/>
          </p:nvSpPr>
          <p:spPr>
            <a:xfrm flipH="1" flipV="1">
              <a:off x="6257880" y="6150240"/>
              <a:ext cx="971640" cy="465120"/>
            </a:xfrm>
            <a:custGeom>
              <a:avLst/>
              <a:gdLst>
                <a:gd name="textAreaLeft" fmla="*/ -360 w 971640"/>
                <a:gd name="textAreaRight" fmla="*/ 971640 w 971640"/>
                <a:gd name="textAreaTop" fmla="*/ 360 h 465120"/>
                <a:gd name="textAreaBottom" fmla="*/ 465840 h 46512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rc 62"/>
            <p:cNvSpPr/>
            <p:nvPr/>
          </p:nvSpPr>
          <p:spPr>
            <a:xfrm flipH="1" flipV="1">
              <a:off x="7072560" y="6228360"/>
              <a:ext cx="1386360" cy="477360"/>
            </a:xfrm>
            <a:custGeom>
              <a:avLst/>
              <a:gdLst>
                <a:gd name="textAreaLeft" fmla="*/ -360 w 1386360"/>
                <a:gd name="textAreaRight" fmla="*/ 1386360 w 1386360"/>
                <a:gd name="textAreaTop" fmla="*/ 360 h 477360"/>
                <a:gd name="textAreaBottom" fmla="*/ 478080 h 47736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rc 63"/>
            <p:cNvSpPr/>
            <p:nvPr/>
          </p:nvSpPr>
          <p:spPr>
            <a:xfrm flipH="1" flipV="1" rot="16200000">
              <a:off x="7978680" y="5830560"/>
              <a:ext cx="686160" cy="425520"/>
            </a:xfrm>
            <a:custGeom>
              <a:avLst/>
              <a:gdLst>
                <a:gd name="textAreaLeft" fmla="*/ 360 w 686160"/>
                <a:gd name="textAreaRight" fmla="*/ 686880 w 686160"/>
                <a:gd name="textAreaTop" fmla="*/ 360 h 425520"/>
                <a:gd name="textAreaBottom" fmla="*/ 426240 h 42552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rc 64"/>
            <p:cNvSpPr/>
            <p:nvPr/>
          </p:nvSpPr>
          <p:spPr>
            <a:xfrm flipH="1" flipV="1" rot="12610800">
              <a:off x="7504200" y="5390280"/>
              <a:ext cx="867240" cy="583920"/>
            </a:xfrm>
            <a:custGeom>
              <a:avLst/>
              <a:gdLst>
                <a:gd name="textAreaLeft" fmla="*/ -360 w 867240"/>
                <a:gd name="textAreaRight" fmla="*/ 867240 w 867240"/>
                <a:gd name="textAreaTop" fmla="*/ 360 h 583920"/>
                <a:gd name="textAreaBottom" fmla="*/ 584640 h 5839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Arc 65"/>
            <p:cNvSpPr/>
            <p:nvPr/>
          </p:nvSpPr>
          <p:spPr>
            <a:xfrm flipH="1" flipV="1" rot="11016600">
              <a:off x="6618960" y="5334480"/>
              <a:ext cx="1182600" cy="583920"/>
            </a:xfrm>
            <a:custGeom>
              <a:avLst/>
              <a:gdLst>
                <a:gd name="textAreaLeft" fmla="*/ -360 w 1182600"/>
                <a:gd name="textAreaRight" fmla="*/ 1182600 w 1182600"/>
                <a:gd name="textAreaTop" fmla="*/ 360 h 583920"/>
                <a:gd name="textAreaBottom" fmla="*/ 584640 h 5839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Arc 66"/>
            <p:cNvSpPr/>
            <p:nvPr/>
          </p:nvSpPr>
          <p:spPr>
            <a:xfrm flipH="1" flipV="1" rot="9905400">
              <a:off x="6248880" y="5725440"/>
              <a:ext cx="654840" cy="477360"/>
            </a:xfrm>
            <a:custGeom>
              <a:avLst/>
              <a:gdLst>
                <a:gd name="textAreaLeft" fmla="*/ 0 w 654840"/>
                <a:gd name="textAreaRight" fmla="*/ 654840 w 654840"/>
                <a:gd name="textAreaTop" fmla="*/ 360 h 477360"/>
                <a:gd name="textAreaBottom" fmla="*/ 478080 h 47736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7"/>
            <p:cNvSpPr/>
            <p:nvPr/>
          </p:nvSpPr>
          <p:spPr>
            <a:xfrm flipH="1" flipV="1">
              <a:off x="6699600" y="560880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Text Box 68"/>
          <p:cNvSpPr/>
          <p:nvPr/>
        </p:nvSpPr>
        <p:spPr>
          <a:xfrm>
            <a:off x="6400800" y="571500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209.88.237.0/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Straight Arrow Connector 2"/>
          <p:cNvCxnSpPr/>
          <p:nvPr/>
        </p:nvCxnSpPr>
        <p:spPr>
          <a:xfrm flipV="1">
            <a:off x="5179680" y="2545560"/>
            <a:ext cx="175500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Straight Arrow Connector 4"/>
          <p:cNvCxnSpPr/>
          <p:nvPr/>
        </p:nvCxnSpPr>
        <p:spPr>
          <a:xfrm>
            <a:off x="5398920" y="3276360"/>
            <a:ext cx="1555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2"/>
          <p:cNvSpPr/>
          <p:nvPr/>
        </p:nvSpPr>
        <p:spPr>
          <a:xfrm flipV="1">
            <a:off x="1981080" y="2971800"/>
            <a:ext cx="17528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"/>
          <p:cNvSpPr/>
          <p:nvPr/>
        </p:nvSpPr>
        <p:spPr>
          <a:xfrm flipV="1">
            <a:off x="5562720" y="2057400"/>
            <a:ext cx="175248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"/>
          <p:cNvSpPr/>
          <p:nvPr/>
        </p:nvSpPr>
        <p:spPr>
          <a:xfrm>
            <a:off x="5715000" y="3505320"/>
            <a:ext cx="152388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7086600" y="4343400"/>
            <a:ext cx="3808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H="1">
            <a:off x="5181480" y="4343400"/>
            <a:ext cx="18288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IDR and Routing Inform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30" name="Group 8"/>
          <p:cNvGrpSpPr/>
          <p:nvPr/>
        </p:nvGrpSpPr>
        <p:grpSpPr>
          <a:xfrm>
            <a:off x="-29160" y="2323080"/>
            <a:ext cx="2940840" cy="4077720"/>
            <a:chOff x="-29160" y="2323080"/>
            <a:chExt cx="2940840" cy="4077720"/>
          </a:xfrm>
        </p:grpSpPr>
        <p:sp>
          <p:nvSpPr>
            <p:cNvPr id="331" name="Rectangle 9"/>
            <p:cNvSpPr/>
            <p:nvPr/>
          </p:nvSpPr>
          <p:spPr>
            <a:xfrm flipV="1">
              <a:off x="475560" y="3979080"/>
              <a:ext cx="2033640" cy="17510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Arc 10"/>
            <p:cNvSpPr/>
            <p:nvPr/>
          </p:nvSpPr>
          <p:spPr>
            <a:xfrm flipV="1">
              <a:off x="1631160" y="4764960"/>
              <a:ext cx="1101600" cy="1369080"/>
            </a:xfrm>
            <a:custGeom>
              <a:avLst/>
              <a:gdLst>
                <a:gd name="textAreaLeft" fmla="*/ 0 w 1101600"/>
                <a:gd name="textAreaRight" fmla="*/ 1101960 w 1101600"/>
                <a:gd name="textAreaTop" fmla="*/ -360 h 1369080"/>
                <a:gd name="textAreaBottom" fmla="*/ 1369080 h 136908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Arc 11"/>
            <p:cNvSpPr/>
            <p:nvPr/>
          </p:nvSpPr>
          <p:spPr>
            <a:xfrm flipV="1">
              <a:off x="237600" y="4994640"/>
              <a:ext cx="1571400" cy="140616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360 h 1406160"/>
                <a:gd name="textAreaBottom" fmla="*/ 1406880 h 140616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Arc 12"/>
            <p:cNvSpPr/>
            <p:nvPr/>
          </p:nvSpPr>
          <p:spPr>
            <a:xfrm flipV="1" rot="5400000">
              <a:off x="-616680" y="4209120"/>
              <a:ext cx="2020320" cy="482040"/>
            </a:xfrm>
            <a:custGeom>
              <a:avLst/>
              <a:gdLst>
                <a:gd name="textAreaLeft" fmla="*/ 0 w 2020320"/>
                <a:gd name="textAreaRight" fmla="*/ 2020680 w 2020320"/>
                <a:gd name="textAreaTop" fmla="*/ -360 h 482040"/>
                <a:gd name="textAreaBottom" fmla="*/ 482040 h 48204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rc 13"/>
            <p:cNvSpPr/>
            <p:nvPr/>
          </p:nvSpPr>
          <p:spPr>
            <a:xfrm flipV="1" rot="8989200">
              <a:off x="336240" y="2528640"/>
              <a:ext cx="983160" cy="1719720"/>
            </a:xfrm>
            <a:custGeom>
              <a:avLst/>
              <a:gdLst>
                <a:gd name="textAreaLeft" fmla="*/ 0 w 983160"/>
                <a:gd name="textAreaRight" fmla="*/ 983520 w 983160"/>
                <a:gd name="textAreaTop" fmla="*/ -360 h 1719720"/>
                <a:gd name="textAreaBottom" fmla="*/ 1719720 h 17197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Arc 14"/>
            <p:cNvSpPr/>
            <p:nvPr/>
          </p:nvSpPr>
          <p:spPr>
            <a:xfrm flipV="1" rot="10583400">
              <a:off x="982080" y="2363400"/>
              <a:ext cx="1340280" cy="1719720"/>
            </a:xfrm>
            <a:custGeom>
              <a:avLst/>
              <a:gdLst>
                <a:gd name="textAreaLeft" fmla="*/ 0 w 1340280"/>
                <a:gd name="textAreaRight" fmla="*/ 1340640 w 1340280"/>
                <a:gd name="textAreaTop" fmla="*/ -360 h 1719720"/>
                <a:gd name="textAreaBottom" fmla="*/ 1719720 h 17197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rc 15"/>
            <p:cNvSpPr/>
            <p:nvPr/>
          </p:nvSpPr>
          <p:spPr>
            <a:xfrm flipV="1" rot="11694600">
              <a:off x="2000160" y="3515400"/>
              <a:ext cx="742680" cy="140616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360 h 1406160"/>
                <a:gd name="textAreaBottom" fmla="*/ 1406880 h 140616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 flipV="1">
              <a:off x="568080" y="3171240"/>
              <a:ext cx="1663560" cy="17510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17"/>
          <p:cNvGrpSpPr/>
          <p:nvPr/>
        </p:nvGrpSpPr>
        <p:grpSpPr>
          <a:xfrm>
            <a:off x="3324240" y="1460520"/>
            <a:ext cx="3290040" cy="2502000"/>
            <a:chOff x="3324240" y="1460520"/>
            <a:chExt cx="3290040" cy="2502000"/>
          </a:xfrm>
        </p:grpSpPr>
        <p:sp>
          <p:nvSpPr>
            <p:cNvPr id="340" name="Rectangle 18"/>
            <p:cNvSpPr/>
            <p:nvPr/>
          </p:nvSpPr>
          <p:spPr>
            <a:xfrm flipV="1">
              <a:off x="3723480" y="2545920"/>
              <a:ext cx="251208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rc 19"/>
            <p:cNvSpPr/>
            <p:nvPr/>
          </p:nvSpPr>
          <p:spPr>
            <a:xfrm flipV="1">
              <a:off x="5150880" y="3005280"/>
              <a:ext cx="1360440" cy="80100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-360 h 801000"/>
                <a:gd name="textAreaBottom" fmla="*/ 801000 h 80100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rc 20"/>
            <p:cNvSpPr/>
            <p:nvPr/>
          </p:nvSpPr>
          <p:spPr>
            <a:xfrm flipV="1">
              <a:off x="3429720" y="3139560"/>
              <a:ext cx="1941120" cy="82260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-360 h 822600"/>
                <a:gd name="textAreaBottom" fmla="*/ 822600 h 82260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rc 21"/>
            <p:cNvSpPr/>
            <p:nvPr/>
          </p:nvSpPr>
          <p:spPr>
            <a:xfrm flipV="1" rot="5400000">
              <a:off x="3031200" y="2523600"/>
              <a:ext cx="1181880" cy="595800"/>
            </a:xfrm>
            <a:custGeom>
              <a:avLst/>
              <a:gdLst>
                <a:gd name="textAreaLeft" fmla="*/ 0 w 1181880"/>
                <a:gd name="textAreaRight" fmla="*/ 1181880 w 1181880"/>
                <a:gd name="textAreaTop" fmla="*/ -360 h 595800"/>
                <a:gd name="textAreaBottom" fmla="*/ 595800 h 59580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rc 22"/>
            <p:cNvSpPr/>
            <p:nvPr/>
          </p:nvSpPr>
          <p:spPr>
            <a:xfrm flipV="1" rot="8989200">
              <a:off x="3551400" y="1697040"/>
              <a:ext cx="1214280" cy="100584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360 h 1005840"/>
                <a:gd name="textAreaBottom" fmla="*/ 1006560 h 100584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rc 23"/>
            <p:cNvSpPr/>
            <p:nvPr/>
          </p:nvSpPr>
          <p:spPr>
            <a:xfrm flipV="1" rot="10583400">
              <a:off x="4349520" y="1600560"/>
              <a:ext cx="1655640" cy="100584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360 h 1005840"/>
                <a:gd name="textAreaBottom" fmla="*/ 1006560 h 100584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rc 24"/>
            <p:cNvSpPr/>
            <p:nvPr/>
          </p:nvSpPr>
          <p:spPr>
            <a:xfrm flipV="1" rot="11694600">
              <a:off x="5607000" y="2274480"/>
              <a:ext cx="916920" cy="822600"/>
            </a:xfrm>
            <a:custGeom>
              <a:avLst/>
              <a:gdLst>
                <a:gd name="textAreaLeft" fmla="*/ 0 w 916920"/>
                <a:gd name="textAreaRight" fmla="*/ 917280 w 916920"/>
                <a:gd name="textAreaTop" fmla="*/ -360 h 822600"/>
                <a:gd name="textAreaBottom" fmla="*/ 822600 h 82260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25"/>
            <p:cNvSpPr/>
            <p:nvPr/>
          </p:nvSpPr>
          <p:spPr>
            <a:xfrm flipV="1">
              <a:off x="3837960" y="2072880"/>
              <a:ext cx="205524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Rectangle 26"/>
          <p:cNvSpPr/>
          <p:nvPr/>
        </p:nvSpPr>
        <p:spPr>
          <a:xfrm>
            <a:off x="3809880" y="2666880"/>
            <a:ext cx="1752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6.0.64.0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4.188.0.0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9.88.232.0/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228600" y="3276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380988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 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9"/>
          <p:cNvGrpSpPr/>
          <p:nvPr/>
        </p:nvGrpSpPr>
        <p:grpSpPr>
          <a:xfrm>
            <a:off x="6458040" y="1422360"/>
            <a:ext cx="2418840" cy="1493640"/>
            <a:chOff x="6458040" y="1422360"/>
            <a:chExt cx="2418840" cy="1493640"/>
          </a:xfrm>
        </p:grpSpPr>
        <p:sp>
          <p:nvSpPr>
            <p:cNvPr id="352" name="Rectangle 30"/>
            <p:cNvSpPr/>
            <p:nvPr/>
          </p:nvSpPr>
          <p:spPr>
            <a:xfrm flipV="1" rot="16200000">
              <a:off x="7464240" y="1609920"/>
              <a:ext cx="987120" cy="104076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rc 31"/>
            <p:cNvSpPr/>
            <p:nvPr/>
          </p:nvSpPr>
          <p:spPr>
            <a:xfrm flipV="1" rot="16200000">
              <a:off x="8044200" y="1388520"/>
              <a:ext cx="534600" cy="81360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360 h 813600"/>
                <a:gd name="textAreaBottom" fmla="*/ 814320 h 81360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rc 32"/>
            <p:cNvSpPr/>
            <p:nvPr/>
          </p:nvSpPr>
          <p:spPr>
            <a:xfrm flipV="1" rot="16200000">
              <a:off x="8077680" y="1940040"/>
              <a:ext cx="762840" cy="83556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-360 h 835560"/>
                <a:gd name="textAreaBottom" fmla="*/ 835560 h 83556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rc 33"/>
            <p:cNvSpPr/>
            <p:nvPr/>
          </p:nvSpPr>
          <p:spPr>
            <a:xfrm flipV="1">
              <a:off x="7117920" y="2547000"/>
              <a:ext cx="1200600" cy="23400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360 h 234000"/>
                <a:gd name="textAreaBottom" fmla="*/ 234720 h 23400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rc 34"/>
            <p:cNvSpPr/>
            <p:nvPr/>
          </p:nvSpPr>
          <p:spPr>
            <a:xfrm flipV="1" rot="3588600">
              <a:off x="6848280" y="1941120"/>
              <a:ext cx="477000" cy="102204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-360 h 1022040"/>
                <a:gd name="textAreaBottom" fmla="*/ 1022040 h 102204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rc 35"/>
            <p:cNvSpPr/>
            <p:nvPr/>
          </p:nvSpPr>
          <p:spPr>
            <a:xfrm flipV="1" rot="5182800">
              <a:off x="6663240" y="1540800"/>
              <a:ext cx="650520" cy="1022040"/>
            </a:xfrm>
            <a:custGeom>
              <a:avLst/>
              <a:gdLst>
                <a:gd name="textAreaLeft" fmla="*/ 0 w 650520"/>
                <a:gd name="textAreaRight" fmla="*/ 650520 w 650520"/>
                <a:gd name="textAreaTop" fmla="*/ -360 h 1022040"/>
                <a:gd name="textAreaBottom" fmla="*/ 1022040 h 102204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rc 36"/>
            <p:cNvSpPr/>
            <p:nvPr/>
          </p:nvSpPr>
          <p:spPr>
            <a:xfrm flipV="1" rot="6294000">
              <a:off x="7400160" y="1285560"/>
              <a:ext cx="360360" cy="8355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-360 h 835560"/>
                <a:gd name="textAreaBottom" fmla="*/ 835560 h 83556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37"/>
            <p:cNvSpPr/>
            <p:nvPr/>
          </p:nvSpPr>
          <p:spPr>
            <a:xfrm flipV="1" rot="16200000">
              <a:off x="7074000" y="1654920"/>
              <a:ext cx="807480" cy="104076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Text Box 38"/>
          <p:cNvSpPr/>
          <p:nvPr/>
        </p:nvSpPr>
        <p:spPr>
          <a:xfrm>
            <a:off x="6781680" y="182880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 X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206.0.68.0/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39"/>
          <p:cNvGrpSpPr/>
          <p:nvPr/>
        </p:nvGrpSpPr>
        <p:grpSpPr>
          <a:xfrm>
            <a:off x="6534000" y="3251160"/>
            <a:ext cx="2419560" cy="1494000"/>
            <a:chOff x="6534000" y="3251160"/>
            <a:chExt cx="2419560" cy="1494000"/>
          </a:xfrm>
        </p:grpSpPr>
        <p:sp>
          <p:nvSpPr>
            <p:cNvPr id="362" name="Rectangle 40"/>
            <p:cNvSpPr/>
            <p:nvPr/>
          </p:nvSpPr>
          <p:spPr>
            <a:xfrm flipV="1" rot="16200000">
              <a:off x="7540920" y="3438720"/>
              <a:ext cx="987120" cy="104076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rc 41"/>
            <p:cNvSpPr/>
            <p:nvPr/>
          </p:nvSpPr>
          <p:spPr>
            <a:xfrm flipV="1" rot="16200000">
              <a:off x="8120880" y="3217320"/>
              <a:ext cx="534600" cy="81396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-360 h 813960"/>
                <a:gd name="textAreaBottom" fmla="*/ 813960 h 81396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rc 42"/>
            <p:cNvSpPr/>
            <p:nvPr/>
          </p:nvSpPr>
          <p:spPr>
            <a:xfrm flipV="1" rot="16200000">
              <a:off x="8154000" y="3768480"/>
              <a:ext cx="762840" cy="83592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360 h 835920"/>
                <a:gd name="textAreaBottom" fmla="*/ 836640 h 83592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rc 43"/>
            <p:cNvSpPr/>
            <p:nvPr/>
          </p:nvSpPr>
          <p:spPr>
            <a:xfrm flipV="1">
              <a:off x="7193880" y="4375800"/>
              <a:ext cx="1200960" cy="23400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360 h 234000"/>
                <a:gd name="textAreaBottom" fmla="*/ 234720 h 23400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rc 44"/>
            <p:cNvSpPr/>
            <p:nvPr/>
          </p:nvSpPr>
          <p:spPr>
            <a:xfrm flipV="1" rot="3588600">
              <a:off x="6924600" y="3770280"/>
              <a:ext cx="477000" cy="102240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360 h 1022400"/>
                <a:gd name="textAreaBottom" fmla="*/ 1023120 h 102240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Arc 45"/>
            <p:cNvSpPr/>
            <p:nvPr/>
          </p:nvSpPr>
          <p:spPr>
            <a:xfrm flipV="1" rot="5182800">
              <a:off x="6739200" y="3369240"/>
              <a:ext cx="650520" cy="1022400"/>
            </a:xfrm>
            <a:custGeom>
              <a:avLst/>
              <a:gdLst>
                <a:gd name="textAreaLeft" fmla="*/ 0 w 650520"/>
                <a:gd name="textAreaRight" fmla="*/ 650520 w 650520"/>
                <a:gd name="textAreaTop" fmla="*/ 360 h 1022400"/>
                <a:gd name="textAreaBottom" fmla="*/ 1023120 h 102240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Arc 46"/>
            <p:cNvSpPr/>
            <p:nvPr/>
          </p:nvSpPr>
          <p:spPr>
            <a:xfrm flipV="1" rot="6294000">
              <a:off x="7476480" y="3115080"/>
              <a:ext cx="360360" cy="835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360 h 835920"/>
                <a:gd name="textAreaBottom" fmla="*/ 836640 h 83592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0563c1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7"/>
            <p:cNvSpPr/>
            <p:nvPr/>
          </p:nvSpPr>
          <p:spPr>
            <a:xfrm flipV="1" rot="16200000">
              <a:off x="7150680" y="3483720"/>
              <a:ext cx="807480" cy="104076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Text Box 48"/>
          <p:cNvSpPr/>
          <p:nvPr/>
        </p:nvSpPr>
        <p:spPr>
          <a:xfrm>
            <a:off x="6934320" y="3733920"/>
            <a:ext cx="1828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209.88.237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49"/>
          <p:cNvGrpSpPr/>
          <p:nvPr/>
        </p:nvGrpSpPr>
        <p:grpSpPr>
          <a:xfrm>
            <a:off x="3607920" y="5136120"/>
            <a:ext cx="2335680" cy="1493280"/>
            <a:chOff x="3607920" y="5136120"/>
            <a:chExt cx="2335680" cy="1493280"/>
          </a:xfrm>
        </p:grpSpPr>
        <p:sp>
          <p:nvSpPr>
            <p:cNvPr id="372" name="Rectangle 50"/>
            <p:cNvSpPr/>
            <p:nvPr/>
          </p:nvSpPr>
          <p:spPr>
            <a:xfrm flipH="1" flipV="1">
              <a:off x="3864240" y="580716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Arc 51"/>
            <p:cNvSpPr/>
            <p:nvPr/>
          </p:nvSpPr>
          <p:spPr>
            <a:xfrm flipH="1" flipV="1">
              <a:off x="3666960" y="6073920"/>
              <a:ext cx="971640" cy="465120"/>
            </a:xfrm>
            <a:custGeom>
              <a:avLst/>
              <a:gdLst>
                <a:gd name="textAreaLeft" fmla="*/ -360 w 971640"/>
                <a:gd name="textAreaRight" fmla="*/ 971640 w 971640"/>
                <a:gd name="textAreaTop" fmla="*/ 360 h 465120"/>
                <a:gd name="textAreaBottom" fmla="*/ 465840 h 46512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Arc 52"/>
            <p:cNvSpPr/>
            <p:nvPr/>
          </p:nvSpPr>
          <p:spPr>
            <a:xfrm flipH="1" flipV="1">
              <a:off x="4481640" y="6152040"/>
              <a:ext cx="1386360" cy="477360"/>
            </a:xfrm>
            <a:custGeom>
              <a:avLst/>
              <a:gdLst>
                <a:gd name="textAreaLeft" fmla="*/ -360 w 1386360"/>
                <a:gd name="textAreaRight" fmla="*/ 1386360 w 1386360"/>
                <a:gd name="textAreaTop" fmla="*/ 360 h 477360"/>
                <a:gd name="textAreaBottom" fmla="*/ 478080 h 47736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Arc 53"/>
            <p:cNvSpPr/>
            <p:nvPr/>
          </p:nvSpPr>
          <p:spPr>
            <a:xfrm flipH="1" flipV="1" rot="16200000">
              <a:off x="5387760" y="5754240"/>
              <a:ext cx="686160" cy="425520"/>
            </a:xfrm>
            <a:custGeom>
              <a:avLst/>
              <a:gdLst>
                <a:gd name="textAreaLeft" fmla="*/ 360 w 686160"/>
                <a:gd name="textAreaRight" fmla="*/ 686880 w 686160"/>
                <a:gd name="textAreaTop" fmla="*/ 360 h 425520"/>
                <a:gd name="textAreaBottom" fmla="*/ 426240 h 42552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Arc 54"/>
            <p:cNvSpPr/>
            <p:nvPr/>
          </p:nvSpPr>
          <p:spPr>
            <a:xfrm flipH="1" flipV="1" rot="12610800">
              <a:off x="4913280" y="5313960"/>
              <a:ext cx="867240" cy="583920"/>
            </a:xfrm>
            <a:custGeom>
              <a:avLst/>
              <a:gdLst>
                <a:gd name="textAreaLeft" fmla="*/ -360 w 867240"/>
                <a:gd name="textAreaRight" fmla="*/ 867240 w 867240"/>
                <a:gd name="textAreaTop" fmla="*/ 360 h 583920"/>
                <a:gd name="textAreaBottom" fmla="*/ 584640 h 5839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Arc 55"/>
            <p:cNvSpPr/>
            <p:nvPr/>
          </p:nvSpPr>
          <p:spPr>
            <a:xfrm flipH="1" flipV="1" rot="11016600">
              <a:off x="4028040" y="5258160"/>
              <a:ext cx="1182600" cy="583920"/>
            </a:xfrm>
            <a:custGeom>
              <a:avLst/>
              <a:gdLst>
                <a:gd name="textAreaLeft" fmla="*/ -360 w 1182600"/>
                <a:gd name="textAreaRight" fmla="*/ 1182600 w 1182600"/>
                <a:gd name="textAreaTop" fmla="*/ 360 h 583920"/>
                <a:gd name="textAreaBottom" fmla="*/ 584640 h 5839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Arc 56"/>
            <p:cNvSpPr/>
            <p:nvPr/>
          </p:nvSpPr>
          <p:spPr>
            <a:xfrm flipH="1" flipV="1" rot="9905400">
              <a:off x="3657960" y="5649120"/>
              <a:ext cx="654840" cy="477360"/>
            </a:xfrm>
            <a:custGeom>
              <a:avLst/>
              <a:gdLst>
                <a:gd name="textAreaLeft" fmla="*/ 0 w 654840"/>
                <a:gd name="textAreaRight" fmla="*/ 654840 w 654840"/>
                <a:gd name="textAreaTop" fmla="*/ 360 h 477360"/>
                <a:gd name="textAreaBottom" fmla="*/ 478080 h 47736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57"/>
            <p:cNvSpPr/>
            <p:nvPr/>
          </p:nvSpPr>
          <p:spPr>
            <a:xfrm flipH="1" flipV="1">
              <a:off x="4108680" y="553248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Text Box 58"/>
          <p:cNvSpPr/>
          <p:nvPr/>
        </p:nvSpPr>
        <p:spPr>
          <a:xfrm>
            <a:off x="3809880" y="56386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209.88.237.192/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Group 59"/>
          <p:cNvGrpSpPr/>
          <p:nvPr/>
        </p:nvGrpSpPr>
        <p:grpSpPr>
          <a:xfrm>
            <a:off x="6198840" y="5212440"/>
            <a:ext cx="2335680" cy="1493280"/>
            <a:chOff x="6198840" y="5212440"/>
            <a:chExt cx="2335680" cy="1493280"/>
          </a:xfrm>
        </p:grpSpPr>
        <p:sp>
          <p:nvSpPr>
            <p:cNvPr id="382" name="Rectangle 60"/>
            <p:cNvSpPr/>
            <p:nvPr/>
          </p:nvSpPr>
          <p:spPr>
            <a:xfrm flipH="1" flipV="1">
              <a:off x="6455160" y="588348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61"/>
            <p:cNvSpPr/>
            <p:nvPr/>
          </p:nvSpPr>
          <p:spPr>
            <a:xfrm flipH="1" flipV="1">
              <a:off x="6257880" y="6150240"/>
              <a:ext cx="971640" cy="465120"/>
            </a:xfrm>
            <a:custGeom>
              <a:avLst/>
              <a:gdLst>
                <a:gd name="textAreaLeft" fmla="*/ -360 w 971640"/>
                <a:gd name="textAreaRight" fmla="*/ 971640 w 971640"/>
                <a:gd name="textAreaTop" fmla="*/ 360 h 465120"/>
                <a:gd name="textAreaBottom" fmla="*/ 465840 h 465120"/>
              </a:gdLst>
              <a:ahLst/>
              <a:rect l="textAreaLeft" t="textAreaTop" r="textAreaRight" b="textAreaBottom"/>
              <a:pathLst>
                <a:path fill="none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</a:path>
                <a:path stroke="0" w="30285" h="31341">
                  <a:moveTo>
                    <a:pt x="-1" y="1822"/>
                  </a:moveTo>
                  <a:cubicBezTo>
                    <a:pt x="2737" y="620"/>
                    <a:pt x="5695" y="-1"/>
                    <a:pt x="8685" y="-1"/>
                  </a:cubicBezTo>
                  <a:cubicBezTo>
                    <a:pt x="20614" y="0"/>
                    <a:pt x="30285" y="9670"/>
                    <a:pt x="30285" y="21600"/>
                  </a:cubicBezTo>
                  <a:cubicBezTo>
                    <a:pt x="30285" y="24983"/>
                    <a:pt x="29489" y="28320"/>
                    <a:pt x="27963" y="31340"/>
                  </a:cubicBezTo>
                  <a:lnTo>
                    <a:pt x="8685" y="21600"/>
                  </a:lnTo>
                  <a:lnTo>
                    <a:pt x="-1" y="1822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rc 62"/>
            <p:cNvSpPr/>
            <p:nvPr/>
          </p:nvSpPr>
          <p:spPr>
            <a:xfrm flipH="1" flipV="1">
              <a:off x="7072560" y="6228360"/>
              <a:ext cx="1386360" cy="477360"/>
            </a:xfrm>
            <a:custGeom>
              <a:avLst/>
              <a:gdLst>
                <a:gd name="textAreaLeft" fmla="*/ -360 w 1386360"/>
                <a:gd name="textAreaRight" fmla="*/ 1386360 w 1386360"/>
                <a:gd name="textAreaTop" fmla="*/ 360 h 477360"/>
                <a:gd name="textAreaBottom" fmla="*/ 478080 h 47736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Arc 63"/>
            <p:cNvSpPr/>
            <p:nvPr/>
          </p:nvSpPr>
          <p:spPr>
            <a:xfrm flipH="1" flipV="1" rot="16200000">
              <a:off x="7978680" y="5830560"/>
              <a:ext cx="686160" cy="425520"/>
            </a:xfrm>
            <a:custGeom>
              <a:avLst/>
              <a:gdLst>
                <a:gd name="textAreaLeft" fmla="*/ 360 w 686160"/>
                <a:gd name="textAreaRight" fmla="*/ 686880 w 686160"/>
                <a:gd name="textAreaTop" fmla="*/ 360 h 425520"/>
                <a:gd name="textAreaBottom" fmla="*/ 426240 h 425520"/>
              </a:gdLst>
              <a:ahLst/>
              <a:rect l="textAreaLeft" t="textAreaTop" r="textAreaRight" b="textAreaBottom"/>
              <a:pathLst>
                <a:path fill="none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</a:path>
                <a:path stroke="0" w="43200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7" y="9670"/>
                    <a:pt x="-22337" y="21599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rc 64"/>
            <p:cNvSpPr/>
            <p:nvPr/>
          </p:nvSpPr>
          <p:spPr>
            <a:xfrm flipH="1" flipV="1" rot="12610800">
              <a:off x="7504200" y="5390280"/>
              <a:ext cx="867240" cy="583920"/>
            </a:xfrm>
            <a:custGeom>
              <a:avLst/>
              <a:gdLst>
                <a:gd name="textAreaLeft" fmla="*/ -360 w 867240"/>
                <a:gd name="textAreaRight" fmla="*/ 867240 w 867240"/>
                <a:gd name="textAreaTop" fmla="*/ 360 h 583920"/>
                <a:gd name="textAreaBottom" fmla="*/ 584640 h 5839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Arc 65"/>
            <p:cNvSpPr/>
            <p:nvPr/>
          </p:nvSpPr>
          <p:spPr>
            <a:xfrm flipH="1" flipV="1" rot="11016600">
              <a:off x="6618960" y="5334480"/>
              <a:ext cx="1182600" cy="583920"/>
            </a:xfrm>
            <a:custGeom>
              <a:avLst/>
              <a:gdLst>
                <a:gd name="textAreaLeft" fmla="*/ -360 w 1182600"/>
                <a:gd name="textAreaRight" fmla="*/ 1182600 w 1182600"/>
                <a:gd name="textAreaTop" fmla="*/ 360 h 583920"/>
                <a:gd name="textAreaBottom" fmla="*/ 584640 h 583920"/>
              </a:gdLst>
              <a:ahLst/>
              <a:rect l="textAreaLeft" t="textAreaTop" r="textAreaRight" b="textAreaBottom"/>
              <a:pathLst>
                <a:path fill="none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39421">
                  <a:moveTo>
                    <a:pt x="9394" y="-26116"/>
                  </a:moveTo>
                  <a:cubicBezTo>
                    <a:pt x="3514" y="-30143"/>
                    <a:pt x="0" y="287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9394" y="-26116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rc 66"/>
            <p:cNvSpPr/>
            <p:nvPr/>
          </p:nvSpPr>
          <p:spPr>
            <a:xfrm flipH="1" flipV="1" rot="9905400">
              <a:off x="6248880" y="5725440"/>
              <a:ext cx="654840" cy="477360"/>
            </a:xfrm>
            <a:custGeom>
              <a:avLst/>
              <a:gdLst>
                <a:gd name="textAreaLeft" fmla="*/ 0 w 654840"/>
                <a:gd name="textAreaRight" fmla="*/ 654840 w 654840"/>
                <a:gd name="textAreaTop" fmla="*/ 360 h 477360"/>
                <a:gd name="textAreaBottom" fmla="*/ 478080 h 477360"/>
              </a:gdLst>
              <a:ahLst/>
              <a:rect l="textAreaLeft" t="textAreaTop" r="textAreaRight" b="textAreaBottom"/>
              <a:pathLst>
                <a:path fill="none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</a:path>
                <a:path stroke="0" w="38664" h="32215">
                  <a:moveTo>
                    <a:pt x="2788" y="32214"/>
                  </a:moveTo>
                  <a:cubicBezTo>
                    <a:pt x="960" y="28975"/>
                    <a:pt x="0" y="2531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8273" y="0"/>
                    <a:pt x="-30965" y="3084"/>
                    <a:pt x="-26873" y="8356"/>
                  </a:cubicBezTo>
                  <a:lnTo>
                    <a:pt x="21600" y="21600"/>
                  </a:lnTo>
                  <a:lnTo>
                    <a:pt x="2788" y="3221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67"/>
            <p:cNvSpPr/>
            <p:nvPr/>
          </p:nvSpPr>
          <p:spPr>
            <a:xfrm flipH="1" flipV="1">
              <a:off x="6699600" y="560880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Text Box 68"/>
          <p:cNvSpPr/>
          <p:nvPr/>
        </p:nvSpPr>
        <p:spPr>
          <a:xfrm>
            <a:off x="6400800" y="571500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209.88.237.0/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69"/>
          <p:cNvSpPr/>
          <p:nvPr/>
        </p:nvSpPr>
        <p:spPr>
          <a:xfrm>
            <a:off x="228600" y="5257800"/>
            <a:ext cx="3191040" cy="1067400"/>
          </a:xfrm>
          <a:prstGeom prst="borderCallout1">
            <a:avLst>
              <a:gd name="adj1" fmla="val 18750"/>
              <a:gd name="adj2" fmla="val -8333"/>
              <a:gd name="adj3" fmla="val -43828"/>
              <a:gd name="adj4" fmla="val -536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Backbone sends everything which matches the prefixes</a:t>
            </a:r>
            <a:r>
              <a:rPr b="0" lang="en-US" sz="1600" spc="-1" strike="noStrike">
                <a:solidFill>
                  <a:srgbClr val="ed7d3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206.0.64.0/18, 204.188.0.0/15, 209.88.232.0/21 </a:t>
            </a: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to ISP 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0"/>
          <p:cNvSpPr/>
          <p:nvPr/>
        </p:nvSpPr>
        <p:spPr>
          <a:xfrm>
            <a:off x="457200" y="3505320"/>
            <a:ext cx="3191040" cy="1067400"/>
          </a:xfrm>
          <a:prstGeom prst="borderCallout1">
            <a:avLst>
              <a:gd name="adj1" fmla="val 18750"/>
              <a:gd name="adj2" fmla="val -8333"/>
              <a:gd name="adj3" fmla="val 2527"/>
              <a:gd name="adj4" fmla="val 11611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ISP K sends everything which matches the prefix: </a:t>
            </a: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206.0.68.0/22  </a:t>
            </a: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to Company X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209.88.237.0/24 </a:t>
            </a: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to ISP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71"/>
          <p:cNvSpPr/>
          <p:nvPr/>
        </p:nvSpPr>
        <p:spPr>
          <a:xfrm>
            <a:off x="1285920" y="1015920"/>
            <a:ext cx="3190680" cy="824040"/>
          </a:xfrm>
          <a:prstGeom prst="borderCallout1">
            <a:avLst>
              <a:gd name="adj1" fmla="val 18750"/>
              <a:gd name="adj2" fmla="val -8333"/>
              <a:gd name="adj3" fmla="val 204189"/>
              <a:gd name="adj4" fmla="val -20888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Backbone routers do not know anything about Company X, ISP Y, or Organizations Z1, Z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72"/>
          <p:cNvSpPr/>
          <p:nvPr/>
        </p:nvSpPr>
        <p:spPr>
          <a:xfrm>
            <a:off x="152280" y="2362320"/>
            <a:ext cx="3191040" cy="580680"/>
          </a:xfrm>
          <a:prstGeom prst="borderCallout1">
            <a:avLst>
              <a:gd name="adj1" fmla="val 18750"/>
              <a:gd name="adj2" fmla="val -8333"/>
              <a:gd name="adj3" fmla="val 72486"/>
              <a:gd name="adj4" fmla="val 1188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ISP K does not know about Organizations Z1, Z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73"/>
          <p:cNvSpPr/>
          <p:nvPr/>
        </p:nvSpPr>
        <p:spPr>
          <a:xfrm>
            <a:off x="3809880" y="2646360"/>
            <a:ext cx="3886200" cy="1067400"/>
          </a:xfrm>
          <a:prstGeom prst="borderCallout1">
            <a:avLst>
              <a:gd name="adj1" fmla="val 18750"/>
              <a:gd name="adj2" fmla="val -8333"/>
              <a:gd name="adj3" fmla="val 98481"/>
              <a:gd name="adj4" fmla="val 12008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ISP Y sends everything which matches the prefix: </a:t>
            </a:r>
            <a:br>
              <a:rPr sz="1600"/>
            </a:b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209.88.237.192/26 </a:t>
            </a: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to Organizations Z1</a:t>
            </a:r>
            <a:br>
              <a:rPr sz="1600"/>
            </a:b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2b2c"/>
                </a:solidFill>
                <a:latin typeface="Arial"/>
              </a:rPr>
              <a:t>209.88.237.0/26 </a:t>
            </a: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to Organizations Z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IDR and Rou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alibri"/>
              </a:rPr>
              <a:t>Aggregation</a:t>
            </a:r>
            <a:r>
              <a:rPr b="0" lang="en-US" sz="2100" spc="-1" strike="noStrike">
                <a:solidFill>
                  <a:srgbClr val="ed7d31"/>
                </a:solidFill>
                <a:latin typeface="Calibri"/>
              </a:rPr>
              <a:t> of routing table entrie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8.14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.0/16 an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8.14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.0/16 can be represented as </a:t>
            </a:r>
            <a:r>
              <a:rPr b="0" lang="en-US" sz="1800" spc="-1" strike="noStrike">
                <a:solidFill>
                  <a:srgbClr val="47ffd1"/>
                </a:solidFill>
                <a:latin typeface="Calibri"/>
              </a:rPr>
              <a:t>128.</a:t>
            </a:r>
            <a:r>
              <a:rPr b="0" lang="en-US" sz="1800" spc="-1" strike="noStrike" u="sng">
                <a:solidFill>
                  <a:srgbClr val="47ffd1"/>
                </a:solidFill>
                <a:uFillTx/>
                <a:latin typeface="Calibri"/>
              </a:rPr>
              <a:t>14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.0/</a:t>
            </a:r>
            <a:r>
              <a:rPr b="0" lang="en-US" sz="1800" spc="-1" strike="noStrike">
                <a:solidFill>
                  <a:srgbClr val="47ffd1"/>
                </a:solidFill>
                <a:latin typeface="Calibri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t a rou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ed7d31"/>
                </a:solidFill>
                <a:latin typeface="Calibri"/>
              </a:rPr>
              <a:t>143 = 128.</a:t>
            </a:r>
            <a:r>
              <a:rPr b="0" lang="en-US" sz="1500" spc="-1" strike="noStrike" u="sng">
                <a:solidFill>
                  <a:srgbClr val="ed7d31"/>
                </a:solidFill>
                <a:uFillTx/>
                <a:latin typeface="Calibri"/>
              </a:rPr>
              <a:t>1000111</a:t>
            </a:r>
            <a:r>
              <a:rPr b="0" lang="en-US" sz="1500" spc="-1" strike="noStrike">
                <a:solidFill>
                  <a:srgbClr val="ed7d31"/>
                </a:solidFill>
                <a:latin typeface="Calibri"/>
              </a:rPr>
              <a:t>1.0.0 142 = 128.</a:t>
            </a:r>
            <a:r>
              <a:rPr b="0" lang="en-US" sz="1500" spc="-1" strike="noStrike" u="sng">
                <a:solidFill>
                  <a:srgbClr val="47ffd1"/>
                </a:solidFill>
                <a:uFillTx/>
                <a:latin typeface="Calibri"/>
              </a:rPr>
              <a:t>1000111</a:t>
            </a:r>
            <a:r>
              <a:rPr b="0" lang="en-US" sz="1500" spc="-1" strike="noStrike" u="sng">
                <a:solidFill>
                  <a:srgbClr val="ed7d31"/>
                </a:solidFill>
                <a:uFillTx/>
                <a:latin typeface="Calibri"/>
              </a:rPr>
              <a:t>0</a:t>
            </a:r>
            <a:r>
              <a:rPr b="0" lang="en-US" sz="1500" spc="-1" strike="noStrike">
                <a:solidFill>
                  <a:srgbClr val="ed7d31"/>
                </a:solidFill>
                <a:latin typeface="Calibri"/>
              </a:rPr>
              <a:t>.0.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alibri"/>
              </a:rPr>
              <a:t>Longest prefix match</a:t>
            </a:r>
            <a:r>
              <a:rPr b="0" lang="en-US" sz="2100" spc="-1" strike="noStrike">
                <a:solidFill>
                  <a:srgbClr val="ed7d31"/>
                </a:solidFill>
                <a:latin typeface="Calibri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Routing table lookup finds the routing entry that matches the longest prefi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??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utgoing interface f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tination IP address: 128.143.137.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876920" y="3962520"/>
          <a:ext cx="3962160" cy="2216160"/>
        </p:xfrm>
        <a:graphic>
          <a:graphicData uri="http://schemas.openxmlformats.org/drawingml/2006/table">
            <a:tbl>
              <a:tblPr/>
              <a:tblGrid>
                <a:gridCol w="2181240"/>
                <a:gridCol w="1780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nterface/outgoing 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43.128.0/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nterface #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28.0.0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ace 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28.0.0.0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ace #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Text Box 43"/>
          <p:cNvSpPr/>
          <p:nvPr/>
        </p:nvSpPr>
        <p:spPr>
          <a:xfrm>
            <a:off x="579132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4876920" y="4648320"/>
            <a:ext cx="396216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Straight Arrow Connector 3"/>
          <p:cNvCxnSpPr/>
          <p:nvPr/>
        </p:nvCxnSpPr>
        <p:spPr>
          <a:xfrm>
            <a:off x="2971440" y="2514240"/>
            <a:ext cx="3886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Pv6 - IP Version 6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IP Version 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he successor to the currently used IPv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cation completed in 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s improvements to IPv4 (no revolutionary chan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ne (not the only !) feature of IPv6 is a significant increase in size of the IP address to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128 bits (16 byte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v6 will solve – for the foreseeable future – the problems with IP address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Pv6 Hea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5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Line 4"/>
          <p:cNvSpPr/>
          <p:nvPr/>
        </p:nvSpPr>
        <p:spPr>
          <a:xfrm>
            <a:off x="1981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H="1">
            <a:off x="3276360" y="4876920"/>
            <a:ext cx="3886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2" descr="IPv6_header_rv1.png"/>
          <p:cNvPicPr/>
          <p:nvPr/>
        </p:nvPicPr>
        <p:blipFill>
          <a:blip r:embed="rId3"/>
          <a:stretch/>
        </p:blipFill>
        <p:spPr>
          <a:xfrm>
            <a:off x="1371600" y="1219320"/>
            <a:ext cx="5867280" cy="36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Pv6 vs. IPv4: Address Comparis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IPv4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as a maximum of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1500" spc="-1" strike="noStrike" baseline="30000">
                <a:solidFill>
                  <a:srgbClr val="ff0000"/>
                </a:solidFill>
                <a:latin typeface="Calibri"/>
              </a:rPr>
              <a:t>32</a:t>
            </a: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 4 billion addres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alibri"/>
              </a:rPr>
              <a:t>IPv6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has a maximum of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alibri"/>
              </a:rPr>
              <a:t>2</a:t>
            </a:r>
            <a:r>
              <a:rPr b="1" lang="en-US" sz="1800" spc="-1" strike="noStrike" baseline="30000">
                <a:solidFill>
                  <a:srgbClr val="ed7d31"/>
                </a:solidFill>
                <a:latin typeface="Calibri"/>
              </a:rPr>
              <a:t>128</a:t>
            </a:r>
            <a:r>
              <a:rPr b="1" lang="en-US" sz="1800" spc="-1" strike="noStrike">
                <a:solidFill>
                  <a:srgbClr val="ed7d31"/>
                </a:solidFill>
                <a:latin typeface="Calibri"/>
              </a:rPr>
              <a:t> = (2</a:t>
            </a:r>
            <a:r>
              <a:rPr b="1" lang="en-US" sz="1800" spc="-1" strike="noStrike" baseline="30000">
                <a:solidFill>
                  <a:srgbClr val="ed7d31"/>
                </a:solidFill>
                <a:latin typeface="Calibri"/>
              </a:rPr>
              <a:t>32</a:t>
            </a:r>
            <a:r>
              <a:rPr b="1" lang="en-US" sz="1800" spc="-1" strike="noStrike">
                <a:solidFill>
                  <a:srgbClr val="ed7d31"/>
                </a:solidFill>
                <a:latin typeface="Calibri"/>
              </a:rPr>
              <a:t>)</a:t>
            </a:r>
            <a:r>
              <a:rPr b="1" lang="en-US" sz="1800" spc="-1" strike="noStrike" baseline="30000">
                <a:solidFill>
                  <a:srgbClr val="ed7d31"/>
                </a:solidFill>
                <a:latin typeface="Calibri"/>
              </a:rPr>
              <a:t>4 </a:t>
            </a:r>
            <a:r>
              <a:rPr b="1" lang="en-US" sz="1800" spc="-1" strike="noStrike">
                <a:solidFill>
                  <a:srgbClr val="ed7d31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ed7d31"/>
                </a:solidFill>
                <a:latin typeface="Calibri"/>
              </a:rPr>
              <a:t> 4 billion x 4 billion x 4 billion x 4 billion </a:t>
            </a:r>
            <a:r>
              <a:rPr b="1" lang="en-US" sz="1800" spc="-1" strike="noStrike">
                <a:solidFill>
                  <a:srgbClr val="ed7d3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alibri"/>
              </a:rPr>
              <a:t>                addr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otation of IPv6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519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alibri"/>
              </a:rPr>
              <a:t>Conventio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: The 128-bit IPv6 address is written a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eight 16-bit intege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using hexadecimal digits for each integer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CEDF:BP76:3245:4464:FACE:2E50:3025:DF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alibri"/>
              </a:rPr>
              <a:t>Short notatio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breviations of leading zero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EDF:BP76:0000:0000:009E:0000:3025:DF12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CEDF:BP76:0:0:9E :0:3025:DF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:0000:000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MS PGothic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can be written as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::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MS PGothic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EDF:BP76:0:0:FACE:0:3025:DF12   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EDF:BP76::FACE:0:3025:DF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addresses derived from IPv4 addresses have different formats. Convention allows to use IPv4 notation for the last 32 b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8.143.137.144 -&gt; 0:0:0:0:0:ffff:808F:8990 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8.143.137.144 -&gt; 2002:808f:8990:0:0:0:0:0 (called 6to4 addre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Pv6 Provider-Based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first IPv6 addresses will be allocated to a provider-based 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Type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t to 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MS PGothic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MS PGothic"/>
              </a:rPr>
              <a:t>010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MS PGothic"/>
              </a:rPr>
              <a:t>”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MS PGothic"/>
              </a:rPr>
              <a:t> for provider-based addre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Registry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: identifies the agency that registered the addr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000" spc="-1" strike="noStrike">
                <a:solidFill>
                  <a:srgbClr val="ed7d31"/>
                </a:solidFill>
                <a:latin typeface="Calibri"/>
              </a:rPr>
              <a:t>The following fields have a variable length (recommeded length in </a:t>
            </a:r>
            <a:r>
              <a:rPr b="0" i="1" lang="ja-JP" sz="2000" spc="-1" strike="noStrike">
                <a:solidFill>
                  <a:srgbClr val="ed7d31"/>
                </a:solidFill>
                <a:latin typeface="Calibri"/>
                <a:ea typeface="MS PGothic"/>
              </a:rPr>
              <a:t>“</a:t>
            </a:r>
            <a:r>
              <a:rPr b="0" i="1" lang="en-US" sz="2000" spc="-1" strike="noStrike">
                <a:solidFill>
                  <a:srgbClr val="ed7d31"/>
                </a:solidFill>
                <a:latin typeface="Calibri"/>
                <a:ea typeface="MS PGothic"/>
              </a:rPr>
              <a:t>()</a:t>
            </a:r>
            <a:r>
              <a:rPr b="0" i="1" lang="ja-JP" sz="2000" spc="-1" strike="noStrike">
                <a:solidFill>
                  <a:srgbClr val="ed7d31"/>
                </a:solidFill>
                <a:latin typeface="Calibri"/>
                <a:ea typeface="MS PGothic"/>
              </a:rPr>
              <a:t>”</a:t>
            </a:r>
            <a:r>
              <a:rPr b="0" i="1" lang="en-US" sz="2000" spc="-1" strike="noStrike">
                <a:solidFill>
                  <a:srgbClr val="ed7d31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Provide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: Id of Internet access provider </a:t>
            </a:r>
            <a:r>
              <a:rPr b="0" i="1" lang="en-US" sz="2000" spc="-1" strike="noStrike">
                <a:solidFill>
                  <a:srgbClr val="ed7d31"/>
                </a:solidFill>
                <a:latin typeface="Calibri"/>
              </a:rPr>
              <a:t>(16 b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Subscriber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d of the organization at provider </a:t>
            </a:r>
            <a:r>
              <a:rPr b="0" i="1" lang="en-US" sz="2000" spc="-1" strike="noStrike">
                <a:solidFill>
                  <a:srgbClr val="ed7d31"/>
                </a:solidFill>
                <a:latin typeface="Calibri"/>
              </a:rPr>
              <a:t>(24 b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Subnetwork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: Id of subnet within organization </a:t>
            </a:r>
            <a:r>
              <a:rPr b="0" i="1" lang="en-US" sz="2000" spc="-1" strike="noStrike">
                <a:solidFill>
                  <a:srgbClr val="ed7d31"/>
                </a:solidFill>
                <a:latin typeface="Calibri"/>
              </a:rPr>
              <a:t>(32 b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Interfa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: identifies an interface at a node </a:t>
            </a:r>
            <a:r>
              <a:rPr b="0" i="1" lang="en-US" sz="2000" spc="-1" strike="noStrike">
                <a:solidFill>
                  <a:srgbClr val="ed7d31"/>
                </a:solidFill>
                <a:latin typeface="Calibri"/>
              </a:rPr>
              <a:t>(48 b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066680" y="2362320"/>
            <a:ext cx="1371600" cy="685800"/>
          </a:xfrm>
          <a:prstGeom prst="rect">
            <a:avLst/>
          </a:prstGeom>
          <a:solidFill>
            <a:srgbClr val="0563c1"/>
          </a:solidFill>
          <a:ln w="0">
            <a:noFill/>
          </a:ln>
          <a:effectLst>
            <a:outerShdw dist="17819" dir="2700000" blurRad="0" rotWithShape="0">
              <a:srgbClr val="7a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2438280" y="2362320"/>
            <a:ext cx="1371600" cy="685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vid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57200" y="2362320"/>
            <a:ext cx="609480" cy="68580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09880" y="2362320"/>
            <a:ext cx="1600200" cy="685800"/>
          </a:xfrm>
          <a:prstGeom prst="rect">
            <a:avLst/>
          </a:prstGeom>
          <a:solidFill>
            <a:srgbClr val="ff6b6b"/>
          </a:solidFill>
          <a:ln w="0">
            <a:noFill/>
          </a:ln>
          <a:effectLst>
            <a:outerShdw dist="17819" dir="2700000" blurRad="0" rotWithShape="0">
              <a:srgbClr val="99404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scrib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934320" y="2362320"/>
            <a:ext cx="1676160" cy="685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97a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410080" y="2362320"/>
            <a:ext cx="1524240" cy="6858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networ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P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8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Line 4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3276720" y="4191120"/>
            <a:ext cx="4952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ore on IPv6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vider-based addresses have a similar flavor as CIDR addre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Pv6 provides address formats for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nica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identifies a single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ultica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identifies a group. Datagrams sent to a multicast address are sent to all members of the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ycast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ies a group. Datagrams sent to an anycast address are sent to one of the members in the grou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at is an IP Address?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P address is a unique global address for a network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P addres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 is a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32 bit lo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dentifi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 encodes a network number (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network prefix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d a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host numbe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0880" y="42670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otted Decimal No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P addresses are written in a so-called </a:t>
            </a:r>
            <a:r>
              <a:rPr b="1" i="1" lang="en-US" sz="2100" spc="-1" strike="noStrike">
                <a:solidFill>
                  <a:srgbClr val="ed7d31"/>
                </a:solidFill>
                <a:latin typeface="Calibri"/>
              </a:rPr>
              <a:t>dotted decimal </a:t>
            </a:r>
            <a:r>
              <a:rPr b="1" lang="en-US" sz="2100" spc="-1" strike="noStrike">
                <a:solidFill>
                  <a:srgbClr val="ed7d31"/>
                </a:solidFill>
                <a:latin typeface="Calibri"/>
              </a:rPr>
              <a:t>no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byte is identified by a decimal number in the range [0..255]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354348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Example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0880" y="42670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048120" y="396252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000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219320" y="396252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876920" y="396252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705720" y="396252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00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447920" y="43434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276720" y="43434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5105520" y="43434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7010280" y="4343400"/>
            <a:ext cx="12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048120" y="6019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.143.137.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2362320" y="533412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4038480" y="53341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6"/>
          <p:cNvSpPr/>
          <p:nvPr/>
        </p:nvSpPr>
        <p:spPr>
          <a:xfrm flipH="1">
            <a:off x="5028840" y="533412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7"/>
          <p:cNvSpPr/>
          <p:nvPr/>
        </p:nvSpPr>
        <p:spPr>
          <a:xfrm flipH="1">
            <a:off x="5715000" y="5334120"/>
            <a:ext cx="17524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twork prefix and Host numb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network prefix identifies a network and the host number identifies a specific host (actually, interface on the network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alibri"/>
              </a:rPr>
              <a:t>How do we know how long the network prefix is?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etwork prefix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us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be implicitly defined (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-based addressing, A,B,C,D</a:t>
            </a:r>
            <a:r>
              <a:rPr b="1" lang="is-IS" sz="1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etwork prefix now is flexible and is indicated by a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etmask (classles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523880" y="2514600"/>
            <a:ext cx="3048120" cy="533520"/>
          </a:xfrm>
          <a:prstGeom prst="rect">
            <a:avLst/>
          </a:prstGeom>
          <a:solidFill>
            <a:srgbClr val="0563c1"/>
          </a:solidFill>
          <a:ln w="0">
            <a:noFill/>
          </a:ln>
          <a:effectLst>
            <a:outerShdw dist="17819" dir="2700000" blurRad="0" rotWithShape="0">
              <a:srgbClr val="7a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twork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2514600"/>
            <a:ext cx="3048120" cy="533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26232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alibri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rgon.cs.virginia.ed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 address is 128.143.137.1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at enough info to route datagram??? -&gt; No, need netmask or prefix at every IP device (host and rou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fix notation IP address is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28.143.137.144/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prefix  is 16 bits 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26232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mask i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5.25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0.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or hex forma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ff0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26232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&gt; </a:t>
            </a:r>
            <a:r>
              <a:rPr b="1" lang="en-US" sz="2000" spc="-1" strike="noStrike">
                <a:solidFill>
                  <a:srgbClr val="adadeb"/>
                </a:solidFill>
                <a:latin typeface="Calibri"/>
              </a:rPr>
              <a:t>Network 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P addres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etmask) i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8.143.0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262320"/>
                <a:tab algn="l" pos="56610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&gt; </a:t>
            </a:r>
            <a:r>
              <a:rPr b="1" lang="en-US" sz="2000" spc="-1" strike="noStrike">
                <a:solidFill>
                  <a:srgbClr val="ffcc66"/>
                </a:solidFill>
                <a:latin typeface="Calibri"/>
              </a:rPr>
              <a:t>Host numb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P addres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verse of Netmask) i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37.1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990720" y="5334120"/>
            <a:ext cx="6095520" cy="533160"/>
            <a:chOff x="990720" y="5334120"/>
            <a:chExt cx="6095520" cy="533160"/>
          </a:xfrm>
        </p:grpSpPr>
        <p:sp>
          <p:nvSpPr>
            <p:cNvPr id="130" name="Rectangle 4"/>
            <p:cNvSpPr/>
            <p:nvPr/>
          </p:nvSpPr>
          <p:spPr>
            <a:xfrm>
              <a:off x="990720" y="5334120"/>
              <a:ext cx="3047760" cy="53316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  <a:effectLst>
              <a:outerShdw dist="17819" dir="2700000" blurRad="0" rotWithShape="0">
                <a:srgbClr val="7a7a9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28.1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4038480" y="5334120"/>
              <a:ext cx="3047760" cy="5331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997a3d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37.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2" name="Straight Arrow Connector 2"/>
          <p:cNvCxnSpPr/>
          <p:nvPr/>
        </p:nvCxnSpPr>
        <p:spPr>
          <a:xfrm flipH="1">
            <a:off x="3119040" y="3136680"/>
            <a:ext cx="396792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Straight Arrow Connector 8"/>
          <p:cNvCxnSpPr/>
          <p:nvPr/>
        </p:nvCxnSpPr>
        <p:spPr>
          <a:xfrm flipH="1">
            <a:off x="6400080" y="3136680"/>
            <a:ext cx="686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old way: Classful IP A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ternet addresses were standardized (early 1980s), the Internet address space was divided up into classe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 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Network prefix is 8 bits 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 B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Network prefix is 16 bits 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 C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Network prefix is 24 bits 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P address contained a key which identifies the clas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 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IP address starts with </a:t>
            </a:r>
            <a:r>
              <a:rPr b="0" lang="ja-JP" sz="2000" spc="-1" strike="noStrike">
                <a:solidFill>
                  <a:srgbClr val="ed7d31"/>
                </a:solidFill>
                <a:latin typeface="Calibri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  <a:ea typeface="MS PGothic"/>
              </a:rPr>
              <a:t>0</a:t>
            </a:r>
            <a:r>
              <a:rPr b="0" lang="ja-JP" sz="2000" spc="-1" strike="noStrike">
                <a:solidFill>
                  <a:srgbClr val="ed7d31"/>
                </a:solidFill>
                <a:latin typeface="Calibri"/>
                <a:ea typeface="MS PGothic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 B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IP address starts with </a:t>
            </a:r>
            <a:r>
              <a:rPr b="0" lang="ja-JP" sz="2000" spc="-1" strike="noStrike">
                <a:solidFill>
                  <a:srgbClr val="ed7d31"/>
                </a:solidFill>
                <a:latin typeface="Calibri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  <a:ea typeface="MS PGothic"/>
              </a:rPr>
              <a:t>10</a:t>
            </a:r>
            <a:r>
              <a:rPr b="0" lang="ja-JP" sz="2000" spc="-1" strike="noStrike">
                <a:solidFill>
                  <a:srgbClr val="ed7d31"/>
                </a:solidFill>
                <a:latin typeface="Calibri"/>
                <a:ea typeface="MS PGothic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 C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IP address starts with </a:t>
            </a:r>
            <a:r>
              <a:rPr b="0" lang="ja-JP" sz="2000" spc="-1" strike="noStrike">
                <a:solidFill>
                  <a:srgbClr val="ed7d31"/>
                </a:solidFill>
                <a:latin typeface="Calibri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  <a:ea typeface="MS PGothic"/>
              </a:rPr>
              <a:t>110</a:t>
            </a:r>
            <a:r>
              <a:rPr b="0" lang="ja-JP" sz="2000" spc="-1" strike="noStrike">
                <a:solidFill>
                  <a:srgbClr val="ed7d31"/>
                </a:solidFill>
                <a:latin typeface="Calibri"/>
                <a:ea typeface="MS PGothic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8T15:51:10Z</dcterms:created>
  <dc:creator>Computer Science Department</dc:creator>
  <dc:description/>
  <dc:language>en-US</dc:language>
  <cp:lastModifiedBy>ASUS1</cp:lastModifiedBy>
  <cp:lastPrinted>1997-09-03T23:08:41Z</cp:lastPrinted>
  <dcterms:modified xsi:type="dcterms:W3CDTF">2017-12-10T00:03:50Z</dcterms:modified>
  <cp:revision>8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aida.poly.edu/EL537</vt:lpwstr>
  </property>
  <property fmtid="{D5CDD505-2E9C-101B-9397-08002B2CF9AE}" pid="9" name="LinkColor">
    <vt:r8>16711782</vt:r8>
  </property>
  <property fmtid="{D5CDD505-2E9C-101B-9397-08002B2CF9AE}" pid="10" name="MailAddress">
    <vt:lpwstr>jorg@catt.poly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FrontPage Webs\Content\teaching\EL537\Lectures\Lecture0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