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77F1CC-2AFF-4328-9000-C425FFD59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1C6B23-0230-42AC-9F67-BA37DCB10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93FBD16-E2AE-4630-8BE0-BE8B79CDC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587104-BA39-448C-BA8E-82698A08E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AC4C55-8989-4695-9A47-D6FEE66E0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18B-1972-4CAD-BF7D-80F4108D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C2D-0E44-49C4-B047-3F86BD29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CD6-1DEC-46F4-9518-A9779A8B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141-A017-4315-A6DC-F1BB676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E26B-953C-4D10-9DF0-CECD2D96E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3EF8B-D2FB-4E4E-940F-865F77A71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6139E-215C-4C02-9E77-01D518C73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6C15E-0C2B-4507-967C-DFFED1C5BE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1DCDE-314F-4870-9C48-47DD7622D2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B4E8B-91FC-42BA-B987-FD75E5DDB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A3B7-23AA-49B1-AC63-ABD8252EF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B6C-362D-47F8-AC14-12B5B7E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576F4-52D7-4DBE-A2FF-F40C79C05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84ED6-8B28-4D99-9656-BCF9574E5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90E5-8C2A-4729-986B-8CFCE72F5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617C0-6DC7-4202-800C-299E79B24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D499-A391-426F-B626-8BF789697D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11FB9-4423-44DD-83D9-A0D1F33754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D77A0-68B3-49E8-8851-9059E7EA0B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3D9B-A694-4940-8EA2-E56CCA7745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7F135-D84E-4239-8D79-3EA96C1C0D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BAE3-092A-41B5-B525-533EC188C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337-BE96-4B95-9039-4512D7F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3284-48F3-4B63-B7A2-B9589B7880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51B8-59A4-4011-A00F-CBE58C3EA2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9CEAD-6415-40CD-991A-784EFE5B30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299F-1241-4008-BF6C-E74F1EF76D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16A5-215B-4F5E-AA97-2CFDC552C6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943ED-FEE8-4411-A9F0-E6EADE53CA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41AF-E5A2-481F-93A4-3836F852E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8FF-26A0-4B61-A735-1A429872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484-082B-4287-8020-2C053B0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D55-1767-4807-B7A4-9104D79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97C-51F3-4FD8-B392-706286F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D6A-1676-4D3B-B71D-25448C1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081-AA66-4907-9953-59F7786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17C-76A3-4095-B82F-D7DED596541F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255-408E-431E-A440-06E0B70B5E4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65A-2729-4621-817F-8CE5218407E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ransport Protocols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01E4-058B-470B-8D16-C62A42E7F030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ransmission Control Protocol (TCP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nection ori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licit set-up and tear-down of TCP s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ream-of-bytes serv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s and receives a stream of bytes, not mes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liable, in-order delive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sums to detect corrupt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nowledgments &amp; retransmissions for reliable 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quence numbers to detect losses and reorder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low contro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 overflow of the receiver’s buffer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gestion contro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apt to network congestion for the greater 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56A-C7A3-402E-9E26-B5B1EDCC02CF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An Analogy: Talking on a Cell Phon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ice and Bob on their cell phon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Alice and Bob are tal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at if Alice couldn’t understand Bob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b asks Alice to repeat what she s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at if Bob hasn’t heard Alice for a while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lice just being qui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, have Bob and Alice lost recep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long should Bob just keep on talk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be Alice should periodically say “uh huh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Bob should ask “Can you hear me now?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E3D4-23DD-4472-9941-62C407220055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0" name="Picture 4" descr="j0332268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ome Take-Aways from the Exampl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cknowledgments from recei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: “okay” or “ACK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: “please repeat that” or “NACK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imeout by the sender (“stop and wait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’t wait indefinitely without receiving some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ther a positive or a negative 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ransmission by the send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receiving a “NACK” from the 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receiving no feedback from the recei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6D2-4885-467C-9765-76099415F3E8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allenges of Reliable Data Transfer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 a perfectly reliable chann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f the data arrives in order, just as it was s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: sender sends data, and receiver receive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 a channel with bit err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f the data arrives in order, but some bits corru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r detects errors and says “please repeat tha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retransmits the data that were corru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 a lossy channel with bit err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data are missing, and some bits are corru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r detects errors but cannot always detect l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must wait for acknowledgment (“ACK” or “OK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retransmit data after some time if no ACK arr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A23-D2C5-4ABF-B068-8225BA060D72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CP Support for Reliable Delive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hecksu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detect corrupted data at the 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ing the receiver to drop the pa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quence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detect missing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. and for putting the data back in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ransmi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retransmits lost or corrupt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out based on estimates of round-trip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retransmit algorithm for rapid retrans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61CA-69F4-40C8-B766-5F6A702FD98E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CP Segment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BEF-6FE3-457C-BCA1-37D585917CA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CP “Stream of Bytes” Serv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7B7A-E5BF-41D0-9036-BC6D63686FA8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76" name="Line 4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Line 5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Line 6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80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8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19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3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 Box 90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 Box 91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Text Box 92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Line 93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Text Box 94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Line 95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Line 96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97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98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Line 99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Line 100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Line 101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Line 102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Line 103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…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mulated Using TCP “Segments”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1EC-872C-4913-A21C-EB7E045093DE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79" name="Line 4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1" name="Line 6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83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1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622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26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3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Text Box 90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Text Box 91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Rectangle 92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Text Box 93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Rectangle 95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96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Line 97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Line 98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Line 99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Line 100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101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Line 102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Line 103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104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105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Line 106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Line 107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Line 108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109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Text Box 110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Text Box 111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Text Box 112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AutoShape 113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25160" indent="-42516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CP Seg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P pack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bigger than Maximum Transmission Unit (MT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up to 1500 bytes on an Eth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CP pack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packet with a TCP header and data in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P header is typically 20 bytes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CP seg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more than Maximum Segment Size (MSS) by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up to 1460 consecutive bytes from the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FA8-B1C8-4635-A818-DFAEB6ED5004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8" name="Group 10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99" name="Rectangle 11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Line 12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01" name="Text Box 13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quence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BBC5-F024-4518-B1E5-F136F0BBCDF1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707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1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9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3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44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745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9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Text Box 80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Text Box 81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5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6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Text Box 98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Text Box 99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Rectangle 100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Text Box 101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Rectangle 102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Text Box 103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Text Box 104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AutoShape 106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AutoShape 108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oal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nciples underlying transport-layer servi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e)multiplex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cting corru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able 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nsport-layer protocols in the Inter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Datagram Protocol (U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ssion Control Protocol (TC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AA8-B82E-4F29-BA0C-5DB6C0D8C7EF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 Sequence Number (ISN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quence number for the very first by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Why not a de facto ISN of 0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actical iss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addresses and port #s uniquely identify a conn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ually, though, these port #s do get used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re is a chance an old packet is still in 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might be associated with the new conn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, TCP requires changing the ISN over ti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from a 32-bit clock that ticks every 4 micro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only wraps around once every 4.55 hour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, this means the hosts need to exchange IS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301-88DB-4699-9867-B43D281A357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CP Three-Way Handshake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5FF-D6FF-4EA0-92E1-8F0BBD1C31BC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tablishing a TCP Connec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ree-way handshake to establish conne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 sends a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Y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open) to the host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B returns a SYN acknowledgment (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SYN AC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 sends an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C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acknowledge the SYN 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FD8-22F2-4781-AB85-4274508756B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Line 5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Text Box 8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Text Box 9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10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Text Box 11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Line 13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 Box 14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Line 16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17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Text Box 18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CP He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369-08CF-430B-91B1-02164DA36226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Rectangle 2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9" name="Text Box 14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56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ep 1: A’s Initial SYN Pack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FF9-D7D7-4673-8242-905AE4D2BC51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Text Box 28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Text Box 29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1" name="Text Box 31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ep 2: B’s SYN-ACK Pack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75D-B7D6-4160-90E9-FD76FE99398F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2" name="Text Box 12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3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6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Text Box 54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 Box 56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ep 3: A’s ACK of the SYN-AC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E25-1449-4F47-83C8-36F6880061FC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Rectangle 31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Rectangle 32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Text Box 33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Rectangle 34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Rectangle 36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Rectangle 38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Text Box 39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Rectangle 40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Rectangle 41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Text Box 42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Text Box 43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Line 44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Line 45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Text Box 46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Text Box 47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Rectangle 48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Rectangle 49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Text Box 50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Text Box 51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Rectangle 52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Text Box 53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54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Text Box 55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Text Box 56"/>
          <p:cNvSpPr/>
          <p:nvPr/>
        </p:nvSpPr>
        <p:spPr>
          <a:xfrm>
            <a:off x="1948680" y="5349960"/>
            <a:ext cx="51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is okay to start send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57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59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at if the SYN Packet Gets Los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ppose the SYN packet gets lo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et is lost inside the network, 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rejects the packet (e.g., listen queue is fu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ntually, no SYN-ACK arriv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sets a timer and wait for the SYN-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retransmits the SYN-ACK if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ow should the TCP sender set the timer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has no idea how far away the receiver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 to guess a reasonable length of time to wa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CPs use a default of 3 or 6 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22C5-42D9-447D-AB64-B34A6F5E0751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 Loss and Web Downloa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r clicks on a hypertext lin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wser creates a socket and does a “connec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“connect” triggers the OS to transmit a S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SYN is lost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3-6 seconds of delay may be very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er may get impat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click the hyperlink again, or click “reloa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r triggers an “abort” of the “connect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wser creates a new socket and does  a “connec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sentially, forces a faster send of a new SYN packe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 very effective, and the page comes 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195-094E-486D-B298-F5E856F5256C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CP Retransmission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8BCB-BB97-4923-A955-59D9CC3376A8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ole of Transport Lay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ication lay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for specific appl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yperText Transfer Protocol (HTTP), File Transfer Protocol (FTP), Network News Transfer Protocol (NNT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between processes (e.g., sock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es on network layer and serves the application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TCP and U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ical communication between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des details of the link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54EA-16A8-49AD-80C9-2DB001145762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utomatic Repeat reQuest (ARQ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C89-FCE1-4F95-8587-31047AFAF866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 Box 4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Line 5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64" name="Group 6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65" name="Line 7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6" name="Text Box 8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67" name="Group 9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68" name="Line 10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9" name="Text Box 11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970" name="AutoShape 12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71" name="Text Box 13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ed7d3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7d31"/>
                </a:solidFill>
                <a:latin typeface="Arial"/>
                <a:ea typeface="Arial"/>
              </a:rPr>
              <a:t>Receiver sends acknowledgment (ACK) when it receives pack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ed7d3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7d31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ed7d3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7d31"/>
                </a:solidFill>
                <a:latin typeface="Arial"/>
                <a:ea typeface="Arial"/>
              </a:rPr>
              <a:t>Stop and wai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ed7d3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7d31"/>
                </a:solidFill>
                <a:latin typeface="Arial"/>
                <a:ea typeface="Arial"/>
              </a:rPr>
              <a:t>Send a packet, stop and wait until ACK arrive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Line 17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Line 18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asons for Retransmiss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13C-1B81-493D-9604-B455A94052EE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9" name="Group 4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80" name="Line 5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1" name="Text Box 6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82" name="Group 7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83" name="Line 8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4" name="Text Box 9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985" name="AutoShape 10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86" name="Text Box 11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Line 12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Text Box 13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89" name="Group 14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90" name="Line 15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1" name="Text Box 16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992" name="AutoShape 17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93" name="Text Box 18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95" name="Line 20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6" name="Text Box 21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997" name="AutoShape 22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98" name="Text Box 23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9" name="Group 24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1000" name="Line 25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1" name="Text Box 26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02" name="Group 27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1003" name="Line 28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4" name="Text Box 29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1005" name="AutoShape 30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06" name="Text Box 31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7" name="AutoShape 32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08" name="Group 35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1009" name="Line 36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0" name="Text Box 37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11" name="Group 38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1012" name="Line 39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3" name="Text Box 40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1014" name="AutoShape 41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15" name="Text Box 42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6" name="Group 43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1017" name="Line 44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8" name="Text Box 45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19" name="Group 46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1020" name="Line 47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1" name="Text Box 48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1022" name="AutoShape 49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23" name="Text Box 50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Line 51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5" name="AutoShape 52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8" name="Text Box 55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Line 56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0" name="Line 57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1" name="Line 58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2" name="Line 59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3" name="Line 60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ow Long Should Sender Wai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nder sets a timeout to wait for an A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 short: wasted retrans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 long: excessive delays when packet l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CP sets timeout as a function of the RT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ct ACK to arrive after an R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a fudge factor to account for queu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, how does the sender know the RT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stimate the RTT by watching the 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ooth estimate: keep a running average of the R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stimatedRTT = a * EstimatedRTT + (1 –a ) * SampleR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timeout: TimeOut = 2 * EstimatedR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91F1-0618-401B-9410-55CC96FD0565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Example RTT Estima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68BF-7513-4A45-8E11-39835B11D56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39" name="Picture 3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Flaw in This Approach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ACK doesn’t really acknowledge a transmi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her, it acknowledges receipt of th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 retransmission of a lost pack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assume the ACK goes with the 1st trans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ampleRTT comes out way too la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 duplicate packe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assume the ACK goes with the 2nd trans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ample RTT comes out way too s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ple solution in the Karn/Partridge algorith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collect samples for segments sent one single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549-094B-4123-AA7E-6EF984EDD598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Yet Another Limitation…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esn’t consider variance in the RT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variance is small, the EstimatedRTT is pretty accu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if variance is large, the estimate isn’t all that 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tter to directly consider the vari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difference: SampleRTT – EstimatedR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ost the estimate based on the dif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cobson/Karels algorith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 Section 5.2 of the Peterson/Davie book for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6E64-E3AA-4343-A916-58DE2AF8EE8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CP Sliding Window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F92-1F45-4B54-BF30-929BE6C30E36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tivation for Sliding Window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p-and-wait is ineffici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TCP segment is “in flight” at a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pecially bad when delay-bandwidth product is hi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umerical 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5 Mbps link with a 45 msec round-trip time (RT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lay-bandwidth product is 67.5 Kbits (or 8 KByt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sender can send at most one packet per R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suming a segment size of 1 KB (8 Kbit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ds to 8 Kbits/segment / 45 msec/segment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182 Kb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at’s just one-eighth of the 1.5 Mbps link capac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B329-D6EF-438D-B258-3FBD116802B7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1" name="Picture 4" descr="j0195384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j0285750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6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liding Window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a larger amount of data “in flight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sender to get ahead of the 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ugh no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o f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h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2CC1-9027-4FD8-84B9-857139DC7D3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9" name="Oval 4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0" name="Text Box 5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1" name="Oval 6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Rectangle 10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Rectangle 12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8" name="Rectangle 15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9" name="Freeform 17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0" name="Line 18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1" name="Line 19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2" name="Text Box 21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3" name="Text Box 22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4" name="Text Box 23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5" name="Rectangle 25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6" name="Rectangle 26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7" name="Rectangle 27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8" name="Rectangle 28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9" name="Text Box 29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0" name="Freeform 30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1" name="Line 31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2" name="Text Box 32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3" name="Text Box 33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4" name="Text Box 34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5" name="Rectangle 36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6" name="Line 37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7" name="Text Box 38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ceiver Buffe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ndow siz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ount that can be sent without 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r needs to be able to store this amount of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eiver advertises the window to the recei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the receiver the amount of free space 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 sender agrees not to exceed this a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25A-1F97-48F6-822D-FC28ACDBC69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1" name="Line 4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2" name="Line 5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3" name="Line 6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4" name="Line 7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5" name="Line 8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6" name="Line 9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7" name="Line 10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8" name="Line 11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9" name="Line 12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0" name="Line 13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1" name="Line 14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2" name="Line 15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3" name="Line 16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4" name="Line 17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5" name="Line 18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6" name="Line 19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7" name="Line 20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8" name="Line 21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9" name="Line 22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0" name="Line 23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1" name="Line 24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2" name="Line 25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3" name="Line 26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4" name="Line 27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5" name="Line 28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6" name="Line 29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7" name="Line 30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8" name="Line 31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9" name="Line 32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0" name="Line 33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1" name="Line 34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2" name="Line 35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3" name="Line 36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4" name="Line 37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Line 38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6" name="Line 39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7" name="Line 40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8" name="Rectangle 41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9" name="Line 42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0" name="Line 43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1" name="Line 44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2" name="Line 45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3" name="Line 46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4" name="Line 47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Text Box 48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Line 49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Line 50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Line 51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52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Line 53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Line 54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Line 55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3" name="Text Box 56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Text Box 57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Text Box 58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Text Box 59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ransport Protocol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tween application processes running on different h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 on end h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: breaks application messages in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g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ses to network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r: reassembles segments into messages, passes to application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transport protocol available to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et: TCP and U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ject 57" descr=""/>
          <p:cNvPicPr/>
          <p:nvPr/>
        </p:nvPicPr>
        <p:blipFill>
          <a:blip r:embed="rId1"/>
          <a:stretch/>
        </p:blipFill>
        <p:spPr>
          <a:xfrm>
            <a:off x="6186600" y="3419640"/>
            <a:ext cx="1304640" cy="108576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79E-23AE-4571-980F-B5D3CAD36664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Freeform 4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43" name="Object 8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9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Line 10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47" name="Object 12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ject 13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14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50" name="Group 15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51" name="Oval 16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3" name="Oval 18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55" name="AutoShape 20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7" name="Rectangle 22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1" name="Rectangle 26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64" name="Oval 29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5" name="Oval 30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6" name="Oval 31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7" name="Line 32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Line 35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Line 36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74" name="AutoShape 39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5" name="Rectangle 40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6" name="Rectangle 41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7" name="AutoShape 42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8" name="Line 43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9" name="Line 44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0" name="Rectangle 45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1" name="Rectangle 46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2" name="Group 47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83" name="Object 48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49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185" name="Object 50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Line 51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87" name="Group 52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88" name="Oval 53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9" name="Oval 54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0" name="Oval 55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91" name="Line 56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92" name="Object 58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93" name="Oval 59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60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Oval 61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62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63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Line 64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Line 65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Line 66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67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2" name="Object 68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69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70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205" name="Object 71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Object 72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73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208" name="Object 74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Object 75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76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211" name="Object 77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78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13" name="Line 79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Group 80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215" name="AutoShape 81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Rectangle 82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Rectangle 83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AutoShape 84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9" name="Line 85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0" name="Line 86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1" name="Rectangle 87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2" name="Rectangle 88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3" name="Group 89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224" name="AutoShape 90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5" name="Rectangle 91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6" name="Rectangle 92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7" name="AutoShape 93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Line 94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Line 95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Rectangle 96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Rectangle 97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2" name="Line 98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Line 99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Line 100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101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102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Line 103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04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Line 105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Line 106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Line 107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Line 108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Line 109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Group 110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45" name="Oval 111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Line 112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Line 113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8" name="Rectangle 114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Oval 115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50" name="Group 116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51" name="Line 117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2" name="Line 118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3" name="Line 119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54" name="Group 120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55" name="Line 121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6" name="Line 122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7" name="Line 123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58" name="Group 124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59" name="Oval 125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Line 126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Line 127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Rectangle 128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Oval 129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64" name="Group 130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65" name="Line 131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6" name="Line 132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7" name="Line 133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68" name="Group 134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69" name="Line 135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0" name="Line 136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1" name="Line 137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72" name="Group 138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73" name="Oval 139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Line 140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Line 141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6" name="Rectangle 142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Oval 143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78" name="Group 144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79" name="Line 145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Line 146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1" name="Line 147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2" name="Group 148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83" name="Line 149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4" name="Line 150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Line 151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86" name="Group 152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87" name="Oval 153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Line 154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Line 155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Rectangle 156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Oval 157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2" name="Group 158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93" name="Line 159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4" name="Line 160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5" name="Line 161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96" name="Group 162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97" name="Line 163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8" name="Line 164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9" name="Line 165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00" name="Group 166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301" name="Oval 167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Line 168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Line 169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Rectangle 170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Oval 171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06" name="Group 172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307" name="Line 173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8" name="Line 174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9" name="Line 175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10" name="Group 176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311" name="Line 177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2" name="Line 178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3" name="Line 179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14" name="Group 180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315" name="Oval 181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Line 182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Line 183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Rectangle 184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9" name="Oval 185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20" name="Group 186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321" name="Line 187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2" name="Line 188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3" name="Line 189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24" name="Group 190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325" name="Line 191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6" name="Line 192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7" name="Line 193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28" name="Group 194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329" name="Oval 195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Line 196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Line 197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2" name="Rectangle 198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3" name="Oval 199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34" name="Group 200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335" name="Line 201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6" name="Line 202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7" name="Line 203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38" name="Group 204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39" name="Line 205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0" name="Line 206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1" name="Line 207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42" name="Group 208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43" name="Oval 209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Line 210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Line 211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Rectangle 212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7" name="Oval 213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0563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48" name="Group 214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49" name="Line 215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0" name="Line 216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Line 217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52" name="Group 218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53" name="Line 219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4" name="Line 220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5" name="Line 221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356" name="Line 222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Group 223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58" name="Rectangle 224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Rectangle 225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Rectangle 226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Text Box 227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Line 228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Line 229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Line 230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65" name="Group 231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66" name="Rectangle 232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7" name="Rectangle 233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8" name="Rectangle 234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9" name="Text Box 235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Line 236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Line 237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Line 238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3" name="Group 239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74" name="Rectangle 240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Rectangle 241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Text Box 242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Line 243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Line 244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9" name="Group 245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80" name="Rectangle 246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Rectangle 247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Text Box 248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3" name="Line 249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Line 250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85" name="Group 251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86" name="Rectangle 252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Rectangle 253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Text Box 254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Line 255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Line 256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1" name="Group 257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92" name="Rectangle 258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Rectangle 259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4" name="Text Box 260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5" name="Line 261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Line 262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7" name="Group 263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98" name="Rectangle 264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Rectangle 265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Text Box 266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Line 267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Line 268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3" name="Group 269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404" name="Rectangle 270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Text Box 271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Freeform 272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Freeform 273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CP Header for Receiver Buffe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D581-5024-47FC-9672-6124F988B9CE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9" name="Rectangle 2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0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4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6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8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9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0" name="Text Box 14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1" name="Text Box 15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2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Text Box 18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5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8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0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1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56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4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Fast Retransmiss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EE5-0175-4ED7-9D9F-68E000C1D8F2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imeout is Ineffici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imeout-based retransmi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transmits a packet and waits until timer exp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n retransmits from the lost packet on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610-1A1E-4548-A87B-AA96931540F5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Rectangle 4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82" name="Picture 5" descr="gbn_example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ast Retransmiss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tter solution possible under sliding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hough packet n might have been l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ets n+1, n+2, and so on might ge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dea: have the receiver send ACK pack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 says that receiver is still awaiting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epeated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Ks suggest later packets have arriv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can view the “duplicate ACKs” as an early h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at the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packet must have been l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 perform the retransmission ear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st retransmi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 retransmits data after the triple duplicate 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3F4-5620-458E-BCF5-3491B6F74E56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ffectiveness of Fast Retransmi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does Fast Retransmit work bes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ata trans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likelihood of many packets in fligh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window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likelihood of many packets in fligh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burstiness in packet lo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er likelihood that later packets arrive successfu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plications for Web traff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Web transfers are short (e.g., 10 packe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hort HTML files or small ima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often there aren’t many packets in 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fast retransmit less likely to “kick i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cing users to like “reload” more often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719-2DAE-41D2-88E4-628E74D30A26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earing Down the Connect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Rectangl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13F-AC5E-4093-AE89-8477C2B7147D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aring Down the Connec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osing the conne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ish (FIN) to close and receive remaining by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other host sends a FIN ACK to ac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t (RST) to close and not receive remaining by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965-E5DF-42BD-A4B7-086BF31AFDA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Line 12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5" name="Line 13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Line 14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Line 15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8" name="Text Box 16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Text Box 17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0" name="Text Box 18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1" name="Text Box 19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Line 20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3" name="Line 21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4" name="Text Box 22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5" name="Text Box 23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6" name="Line 24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7" name="Line 25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8" name="Line 26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9" name="Text Box 27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0" name="Line 28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1" name="Text Box 29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2" name="Text Box 30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3" name="Text Box 31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4" name="Oval 32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5" name="Oval 33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6" name="Oval 34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Line 35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Text Box 36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9" name="Line 37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0" name="Text Box 38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nding/Receiving the FIN Pack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nding a FIN: close(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is done sending data via the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invokes “close()” to close the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CP has sent all of the outstanding byt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TCP sends a 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eiving a FIN: E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is reading data from the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ually, the attempt to read returns an E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7D50-3310-42EE-8D5B-B384DAA9DCBA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lu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nsport protoco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xing and demultiplex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quence nu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ndow-based flow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r-based retrans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sum-based error de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ading for this we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ions 2.5, 5.1-5.2, and 6.1-6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ext le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est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3C0-EF25-416B-B260-56F82AD29687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ernet Transport Protocol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gram messaging service (UDP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-frills extension of “best-effort” 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liable, in-order delivery (TCP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ion set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arding of corrupted pac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ansmission of lost pac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estion control (next lectu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ther services not avail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ay guarant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dwidth guarant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228-CF87-4D16-AD6C-54ECF0C47E2D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Multiplexing and Demultiplexing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DF2-C739-475F-BC8C-8505933ABDF4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-3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receives IP data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atagram has source and destination IP addres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atagram carries one transport-layer se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segment has source and destination port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10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13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Unreliable Message Delivery Servic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ghtweight communication between proc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oid overhead and delays of ordered, reliable 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messages to and receive them from a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r Datagram Protocol (UDP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plus port numbers to support (de)multiplex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al error checking on the packet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E692-A1EE-4112-A5EB-05950E3306BD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8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y Would Anyone Use UDP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ner control over what data is sent and wh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soon as an application process writes into the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DP will package the data and send the pa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delay for connection establishmen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DP just blasts away without any formal prelimin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avoids introducing any unnecessary del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connection st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allocation of buffers, parameters, sequence #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it easier to handle many active clients at o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mall packet header overhe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DP header is only eight-bytes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BC6B-9738-434D-AF4A-0C7EDF2F9953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opular Applications That Use UD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media stream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ansmitting lost/corrupted packets is not worthwh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the time the packet is retransmitted, it’s too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telephone calls, video conferencing,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ple query protocols like Domain Name Syste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head of connection establishment is overk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have application retransmit if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6E3-E83F-43BA-B31A-718DF1B6D5AD}" type="slidenum">
              <a:rPr b="1" lang="en-US" sz="9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7" name="Picture 4" descr="j0292020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j0285750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49" name="Freeform 6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3" name="Picture 10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Hossain Shahriar</cp:lastModifiedBy>
  <dcterms:modified xsi:type="dcterms:W3CDTF">2019-08-08T13:55:01Z</dcterms:modified>
  <cp:revision>1038</cp:revision>
  <dc:subject/>
  <dc:title>Communication</dc:title>
</cp:coreProperties>
</file>