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Num" idx="7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B964FF5-7F70-4BD0-8182-CBA324C9DD6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53CA1B4-4A55-4757-95C7-5ADA70DB9C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53DAC6E-0413-4174-9DF0-A9A0EF300A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326606C-9914-4C10-9592-B14984B00D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1FD7A09-C3E4-4CDA-A3CD-F28E33BDAB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3772990-64BF-478C-AAAA-913DECE423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E9CD1C4-0139-4C59-8A58-EC428E527A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37786F7-A426-4BD8-8946-38D7C21DCC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C6C0B2E-FDF9-4131-84FA-F79BE60F949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E574FE8-55C4-4AEC-A83B-35FFEB593CE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95157BB-2578-4A2C-8615-BDFDB779004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BB1C498-5E61-4984-9C0B-6E4BC76F06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6E1C9E2-0441-4794-967B-23047D6632A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93B291B-0985-4880-A4FE-55BC092A1C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9A8601A-3463-4131-9B5D-D927D2790F7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8C113CF-801E-4455-8F29-6461F5E35F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89618F8-8428-4A79-9C67-E89C8C8046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332090F-2279-40D1-B466-C170989B25E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5E29B82-E554-4434-83BF-A39D971333E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EA9966F-20FD-42A8-937F-9E9E04D78C6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0917070-BFF5-428D-824C-239A474D3B4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852498C-F345-45A7-B410-4664936E8BB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6D1CC71-B46C-4BEC-9967-D1938B2BC3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C054FE3-6678-40FD-9DC4-7AA2B022B55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21B12B9-BB81-45B3-9546-8077E4B35D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D048DF7-BC5B-45E4-870C-7A67C013B3E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EC8-6BCB-4281-9865-FB72461D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FC1-54BD-4CDC-A754-91756DA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C00-0ADC-477B-A8B3-EA91C313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EC3-5207-4DBF-A5DA-56CFCD7F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030-1188-4B48-A321-BDBD6017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A78-6FEB-4624-B193-541F0D48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F64-1989-4186-9249-1DC47611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E7B-C300-4E1B-AA6F-44407303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E46-0184-471A-9FD7-79E9AF4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62C-1F7C-45AF-93BA-68C3CF0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C1B-E464-40E5-825A-9E05451E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6DD-B4C5-492A-BF3D-BAEEEA49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1A6-C329-4C6A-A3D8-D25A4F42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20E-675F-4AD5-976D-8D45DF19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036-BAFE-4EEC-ADA7-4680388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87F4-DCBB-4A91-A578-DF36702C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B7C8-B9F5-44BC-93E0-D204780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DE8-8F81-48E7-8A21-D226639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3D7F-853B-4C83-B296-7C0FE8D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06E3-85C6-4456-8F65-F706E11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54E5-C308-4B9B-990C-8ED409A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5A82-45F6-4A9E-B8FD-016C5F08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6AE-33FB-4BC3-A867-1D4C585F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069F-32B3-42CE-B3D0-2D386E60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816707C-A6FC-4799-AE50-759E83773DA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D422-FB93-4F35-BC0C-B4E78716F51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Pt_CoverArt1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C84F08F-C893-4F3C-B740-74DDD46C39C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0" y="6623280"/>
            <a:ext cx="8035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sion 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0" y="6623280"/>
            <a:ext cx="8035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sion 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B39F-C606-4694-BF01-AF484F55E9C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Application Layer Functionality and Protocols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2P Applic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5560" y="1900080"/>
            <a:ext cx="7881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Running applications in </a:t>
            </a:r>
            <a:r>
              <a:rPr b="1" lang="en-US" sz="2100" spc="-1" strike="noStrike">
                <a:solidFill>
                  <a:srgbClr val="00b0f0"/>
                </a:solidFill>
                <a:latin typeface="Calibri"/>
              </a:rPr>
              <a:t>hybrid</a:t>
            </a: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 mode allows for a centralized directory of files even though the files themselves  may be on multiple machin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Unlike P2P networks, a device can act as both the client and server within the same commun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device must provide a user interface and run a background servic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used on P2P networks, client/server networks and across the interne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4884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P2P Applications Example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55560" y="154728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163520" y="1733400"/>
            <a:ext cx="680400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5960" y="825120"/>
            <a:ext cx="814536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on Port Number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55200" y="1900080"/>
            <a:ext cx="7861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C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TP – 20-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net – 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TP – 2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S – 53 (Both TCP &amp; UD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HTTP – 8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HCP – 67 &amp; 6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 – 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NS Servic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55560" y="1899720"/>
            <a:ext cx="822024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NS resolver – supports name resolution for other network applications and services that need it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vices are usually given 1 or more DNS Server addresses they can use for name resolu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Uses different types of </a:t>
            </a:r>
            <a:r>
              <a:rPr b="1" lang="en-US" sz="2100" spc="-1" strike="noStrike">
                <a:solidFill>
                  <a:srgbClr val="00b0f0"/>
                </a:solidFill>
                <a:latin typeface="Calibri"/>
              </a:rPr>
              <a:t>resource records</a:t>
            </a: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 to actually resolve the name/IP address iss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782280"/>
            <a:ext cx="81457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DSN Services and Protocol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138320" y="1538280"/>
            <a:ext cx="6794280" cy="3149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15960" y="4889520"/>
            <a:ext cx="799164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DNS Servers resolve names to IP addresses.  It would be difficult to remember the IP address of every website we like to visit, but we can remember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 YOU DNS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WW Service and HTT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55200" y="1541160"/>
            <a:ext cx="8156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 URL is typed in the address bar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owser checks with DNS server to convert it to an IP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s to the server reques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HTT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r </a:t>
            </a:r>
            <a:r>
              <a:rPr b="1" lang="en-US" sz="1800" spc="-1" strike="noStrike">
                <a:solidFill>
                  <a:srgbClr val="ed7d31"/>
                </a:solidFill>
                <a:latin typeface="Calibri"/>
              </a:rPr>
              <a:t>HTTP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otocol requirements, the browser sends a GET request to the server to ask for the desired html document (usually index.htm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rver sends the HTML code for the web page to the brows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rowser interprets the HTML code and formats the page to fit the browser wind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 the next slide for an exam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WWW Service and HTTP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858960" y="1568520"/>
            <a:ext cx="7405560" cy="4103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520560" y="4284720"/>
            <a:ext cx="2563920" cy="17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HTTP/HTTPS are some of the MOST used application protoco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E-mail services and SMTP/POP protocol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55560" y="1560600"/>
            <a:ext cx="80488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-mail is the most popular network servic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-mail client (when people compose e-mail) is called Mail User Agent (MUA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A allows messages to be sent/retrieved to and from your mailbo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quires several applications and servi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 or POP3 – deliver email from server to client (incoming mess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TP – handles outbound messages from cl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E-mail services and SMTP/POP protocol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5200" y="1523880"/>
            <a:ext cx="7921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at do servers require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Must be running SMTP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 ope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b0f0"/>
                </a:solidFill>
                <a:latin typeface="Calibri"/>
              </a:rPr>
              <a:t>Mail Transfer Agent (MTA) – used to forward emai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b0f0"/>
                </a:solidFill>
                <a:latin typeface="Calibri"/>
              </a:rPr>
              <a:t>Receives email from the clients MU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b0f0"/>
                </a:solidFill>
                <a:latin typeface="Calibri"/>
              </a:rPr>
              <a:t>Uses SMTP to route email between SERVERS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b0f0"/>
                </a:solidFill>
                <a:latin typeface="Calibri"/>
              </a:rPr>
              <a:t>Passes email  to the MDA for final deliver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l Delivery Agent (MDA) – receives messages from MUA or from the MTA on another ser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two e-mail servers to talk – MUST run SMTP and MTA in order to transfer mail between the 2 server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lients run Lotus Notes, Groupwise, or MS Exchange.  They have their own proprietary protocol for handling e-ma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7599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E-mail services and SMTP/POP protocol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415880" y="1724040"/>
            <a:ext cx="633276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 Light"/>
              </a:rPr>
              <a:t>Applications Layer – allows user to interface with the network!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1362240" y="2432160"/>
            <a:ext cx="638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T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5200" y="1415520"/>
            <a:ext cx="81025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only used application layer protoco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s for the transfer of files between clients/serv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quires 2 connections to the serv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s – uses TCP port 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ual data – uses TCP port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HC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6280" y="1631520"/>
            <a:ext cx="8120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namic Host Configuration Protocol – enables devices to obtain IP addresses, subnet masks, gateways, DNS server information, etc. from a DHCP serv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P address that is not being used is assigned from a range of available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permanently assigned – only leased for a specific period of time (usually 24 hours – 7 d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host logs off or the power is lost, the IP address they were using is returned to the pool to be re-assigned to another host when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how you are able to use Wi-Fi at various places in the worl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’t use DHCP for devices such as servers, printers, routers, switches, etc.  These should be statically assign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ill be covered in greater detail in CCNA 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626760"/>
            <a:ext cx="81457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ln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9000" y="1218960"/>
            <a:ext cx="85503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ed in the early 1970’s – among the oldest of the application layer protocols and services in the TCP/IP protocol su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s users to emulate text-based terminal devices over the network using softw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nnection is known as a ‘virtual terminal (vty)’ s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run from the command prompt on a P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can use the device as if you were sitting there with all the rights and priorities that you username will offer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Disadvantages: Doesn’t support encryption like SSH.  All data is transferred as plain text.  It can be easily intercepted and understo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ecurity is a concern, you should use Secure Shell (SSH) protocol.  Provides for remote logins with stronger authentication than tel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Professionals should always use SSH whenever poss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Telne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741320" y="16444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ile Sharing Services and SMB protoco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5560" y="1272960"/>
            <a:ext cx="79948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Message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B has become a mainstay of Microsoft networking, even more so since the introduction of Windows 2000 software</a:t>
            </a:r>
            <a:r>
              <a:rPr b="0" lang="en-US" sz="2000" spc="-1" strike="noStrike">
                <a:solidFill>
                  <a:srgbClr val="ed7d31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Allows servers to share their resources with cl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ux and Unix also share with Microsoft networks using a version of SMB called SAMB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e also supports sharing resources using an SMB protoc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can SMB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, authenticate, and terminate se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ol file and printer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 applications to send/receive messages to/from another de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ile sharing services and SMB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1089000" y="2317680"/>
            <a:ext cx="69375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28480" y="1562040"/>
            <a:ext cx="7983720" cy="3946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708120" y="784080"/>
            <a:ext cx="732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Application Layer – Provides the interface between the applications on either end of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048040" y="1677960"/>
            <a:ext cx="5335560" cy="3916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Protocols and network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626760"/>
            <a:ext cx="81457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tocol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8720" y="1155240"/>
            <a:ext cx="86310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DNS – Matches domain names with IP addre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HTTP – Used to transfer data between clients/servers using a web brows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SMTP  &amp; POP3 – used to send email messages from clients to servers over the inter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FTP – allows the download/upload of files between a client/serv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Telnet – allows users to login to a host from a remote location and take control as if they were sitting at the machine (virtual connectio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DHCP – assigns IP addresses, subnet masks, default gateways, DNS servers, etcs. To users as they login the networ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488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Application layer software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6120" y="1347840"/>
            <a:ext cx="805032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2 typ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Applications – Provide the human (user) interface.  Relies on lower layers to complete the communication proc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ervices – establish an interface to the network where protocols provide the rules and formats that govern how data is treated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ow data requests occur &amp; are fill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Client/server model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Centralized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ecurity is easier to enfo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ication layer services and protoco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er-to-peer networking and ap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626760"/>
            <a:ext cx="81457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lient/Server Model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55560" y="1143000"/>
            <a:ext cx="7940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Client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Calibri"/>
              </a:rPr>
              <a:t>device requesting information (initiates the data exchan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Calibri"/>
              </a:rPr>
              <a:t>Can also UPLOAD data to the serv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Server – device responding to the requ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How does it handle multiple request from multiple users and keep everything in ord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Relies on support from the lower layer functions to distinguish between services and convers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erver relies on a service called a server daemon – runs in the background and ‘listens’ for requests for that service.  It can then exchange messages as appropriate &amp; send reques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-mail Client on an employee computer issues a request to the e-mail server for any unread e-mail.  The server responds by sending the e-mail to the cli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sations can originate with either par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Peer-to-Peer (P2P) Network Model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5200" y="1547280"/>
            <a:ext cx="80852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Two or more computers are connected and are able to share resources </a:t>
            </a:r>
            <a:r>
              <a:rPr b="1" lang="en-US" sz="2100" spc="-1" strike="noStrike">
                <a:solidFill>
                  <a:srgbClr val="00b0f0"/>
                </a:solidFill>
                <a:latin typeface="Calibri"/>
              </a:rPr>
              <a:t>without having a dedicated serv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Every end device can function as a client or server on a ‘per request’ basi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Resources are </a:t>
            </a:r>
            <a:r>
              <a:rPr b="1" lang="en-US" sz="2100" spc="-1" strike="noStrike">
                <a:solidFill>
                  <a:srgbClr val="00b0f0"/>
                </a:solidFill>
                <a:latin typeface="Calibri"/>
              </a:rPr>
              <a:t>decentralized</a:t>
            </a:r>
            <a:r>
              <a:rPr b="0" lang="en-US" sz="2100" spc="-1" strike="noStrike">
                <a:solidFill>
                  <a:srgbClr val="00b0f0"/>
                </a:solidFill>
                <a:latin typeface="Calibri"/>
              </a:rPr>
              <a:t> (information can be located anywher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fficult to enforce security and poli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r accounts and access rights have to be set individually on each peer dev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Hossain Shahriar</cp:lastModifiedBy>
  <cp:lastPrinted>1999-01-27T00:54:54Z</cp:lastPrinted>
  <dcterms:modified xsi:type="dcterms:W3CDTF">2019-08-07T19:13:33Z</dcterms:modified>
  <cp:revision>400</cp:revision>
  <dc:subject/>
  <dc:title>Application Layer Functionality and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