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19856-EB3B-4D88-84CE-30AB50893C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1540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3918600"/>
            <a:ext cx="891540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13C00-2043-4926-A42E-AF26C39815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435060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20320" y="1371240"/>
            <a:ext cx="435060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3918600"/>
            <a:ext cx="435060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20320" y="3918600"/>
            <a:ext cx="435060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06C1C-99A7-4172-8279-0DE9C136A3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2870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6560" y="1371240"/>
            <a:ext cx="2870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1200" y="1371240"/>
            <a:ext cx="2870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3918600"/>
            <a:ext cx="2870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6560" y="3918600"/>
            <a:ext cx="2870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1200" y="3918600"/>
            <a:ext cx="2870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1A647-D53C-49D4-93BA-7556B839A9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A1882-A87E-40F3-86BE-0F5B5AEFF6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192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38561-FC97-44D6-A935-F6F17DABAB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BD156-CC39-4582-8570-F626707ADB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4350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20320" y="1371240"/>
            <a:ext cx="4350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A4691-F464-4FFB-851A-14AAA769AB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3BEC7-6F8E-4496-B6AA-73AD664FDA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6320" y="152280"/>
            <a:ext cx="8991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71927-B080-4D5B-81EF-9FBD81A4BD0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435060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20320" y="1371240"/>
            <a:ext cx="4350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51920" y="3918600"/>
            <a:ext cx="435060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4724D-03CB-47DF-B9CA-7C095922DB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6A89B-7A94-48D8-A1F9-9075F46825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4350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0320" y="1371240"/>
            <a:ext cx="435060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20320" y="3918600"/>
            <a:ext cx="435060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F7EF4-C66A-4F9E-8D2A-C5802F8B39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435060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20320" y="1371240"/>
            <a:ext cx="435060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51920" y="3918600"/>
            <a:ext cx="891540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64BC3-39FA-47B2-B3EF-DA8F381D58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1540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51920" y="3918600"/>
            <a:ext cx="891540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D2967-FBC7-40A3-9FED-9E3A2DCB49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435060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20320" y="1371240"/>
            <a:ext cx="435060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1920" y="3918600"/>
            <a:ext cx="435060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20320" y="3918600"/>
            <a:ext cx="435060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8A51D-E9C4-46E8-AC7B-B052012E81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2870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6560" y="1371240"/>
            <a:ext cx="2870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81200" y="1371240"/>
            <a:ext cx="2870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51920" y="3918600"/>
            <a:ext cx="2870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6560" y="3918600"/>
            <a:ext cx="2870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81200" y="3918600"/>
            <a:ext cx="2870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FA7D7-5760-4DC0-84A2-62EA9C6F97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00527-6718-44EF-9AD0-D3865B8431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4350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20320" y="1371240"/>
            <a:ext cx="4350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8415D-BF6B-44F7-AFE6-7A6B661E52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714CB-E8BC-42C9-ADDA-A9DE9FA23D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6320" y="152280"/>
            <a:ext cx="8991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AB010-5B81-432E-A42E-5B4E142202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435060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0320" y="1371240"/>
            <a:ext cx="4350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3918600"/>
            <a:ext cx="435060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1D8CD-5123-4740-9376-B47173A53B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4350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0320" y="1371240"/>
            <a:ext cx="435060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20320" y="3918600"/>
            <a:ext cx="435060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347BE-C756-4CEC-B91B-23BFD52330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435060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0320" y="1371240"/>
            <a:ext cx="435060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3918600"/>
            <a:ext cx="891540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65388-0D5A-406F-AC1B-834D8EC507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92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CB34-73DA-428C-88EB-2D7A02477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43000"/>
            <a:ext cx="9144000" cy="745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0C9D-7CFC-40AB-9DD9-3A28A8564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583080"/>
            <a:ext cx="9144000" cy="745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4296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ress Resolution Protocol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ARP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4038480"/>
            <a:ext cx="8382240" cy="101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es to Lab 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odule is about the address resolution protoco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A474F-0323-4BA0-A492-1596405C721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ngs to know about AR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25748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ppens if an ARP Request is made for a non-existing ho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25748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everal ARP requests are made with increasing tim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tervals between requests. Eventually, ARP gives 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25748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a host sends an ARP request for its own IP addr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25748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 other machines respo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gratuitous ARP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as if it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as a normal ARP request. </a:t>
            </a:r>
            <a:br>
              <a:rPr sz="2400"/>
            </a:b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is is useful for detecting if an IP address has already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een assig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4FC61-A55D-4816-ACF8-5DEE1A4E25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xy AR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xy ARP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st or router responds to ARP Request that arrives from one of its connected networks for a host that is on another of its connected network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-45000" bIns="-45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2562120"/>
          <a:ext cx="9088560" cy="368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62120"/>
                    <a:ext cx="908856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7BEBB-59DD-47E9-806A-9380FB3277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5192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85800" y="1828800"/>
          <a:ext cx="73152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3152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DD566-55D5-40BE-AC7C-0B11BA8760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P and RAR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rnet is based on IP addres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link protocols (Ethernet, FDDI, ATM) may have different (MAC)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P and RARP protocols perform th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ranslation between IP addresses and MAC layer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discuss ARP for broadcast LANs, particularly Ethernet 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4952880"/>
            <a:ext cx="1676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53341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09480" y="4495680"/>
          <a:ext cx="7000920" cy="165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495680"/>
                    <a:ext cx="700092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D5E77-1AB7-452F-9254-CFF027EF81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essing of IP packets  by network driv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01680" y="1587600"/>
          <a:ext cx="8556480" cy="468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1680" y="1587600"/>
                    <a:ext cx="8556480" cy="46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07667-E646-45A0-B396-780EE84E7F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ress Translation with AR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P Requ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on broadcasts an ARP request to all stations on the network: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“What is the hardware address of Router137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-45000" bIns="-45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04920" y="3048120"/>
          <a:ext cx="8318520" cy="37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8120"/>
                    <a:ext cx="831852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67EEA-44CD-4CB5-AF64-32A26ECBAE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ress Translation with AR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P Rep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 137 responds with an ARP Reply which contains the hardware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-45000" bIns="-45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3013200"/>
          <a:ext cx="8325000" cy="376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013200"/>
                    <a:ext cx="8325000" cy="37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2DBAB-4446-4579-B2A2-59CB964FDE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P Packe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8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-45000" bIns="-45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28600" y="1447920"/>
          <a:ext cx="8686800" cy="15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868680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-45000" bIns="-45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0" y="2971800"/>
          <a:ext cx="9144000" cy="362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971800"/>
                    <a:ext cx="9144000" cy="36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 flipV="1">
            <a:off x="395280" y="2333160"/>
            <a:ext cx="2409840" cy="83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58120" y="2328840"/>
            <a:ext cx="1200240" cy="83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BE3FE-643B-4EFB-BBDD-9C80BE906D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ARP Request from Arg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hardware addres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:a0:24:71:e4:44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protocol addres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8.143.137.144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hardware addres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:00:00:00:00: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protocol addres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8.143.137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ARP Reply from Router137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hardware addres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:e0:f9:23:a8: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protocol addres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8.143.137.1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hardware addres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:a0:24:71:e4:44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protocol addres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8.143.137.1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36C98-8614-4C33-945D-65560DB9F7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P Cach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0684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sending an ARP request/reply for each IP datagram is inefficient, hosts maintain a cache (ARP Cache) of current entries. The entries expire after 20 min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1828800"/>
                <a:tab algn="l" pos="360684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0684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s of the ARP Cach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360684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28.143.71.37) at 00:10:4B:C5:D1:15 [ether] on eth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360684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28.143.71.36) at 00:B0:D0:E1:17:D5 [ether] on eth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360684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28.143.71.35) at 00:B0:D0:DE:70:E6 [ether] on eth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360684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28.143.136.90) at 00:05:3C:06:27:35 [ether] on eth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360684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28.143.71.34) at 00:B0:D0:E1:17:DB [ether] on eth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360684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28.143.71.33) at 00:B0:D0:E1:17:DF [ether] on eth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8693F-1E72-455F-9DAA-70AE7C60CE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1T20:17:36Z</dcterms:created>
  <dc:creator>Preferred Customer</dc:creator>
  <dc:description/>
  <dc:language>en-US</dc:language>
  <cp:lastModifiedBy>Jorg Liebeherr</cp:lastModifiedBy>
  <cp:lastPrinted>2000-01-29T19:47:10Z</cp:lastPrinted>
  <dcterms:modified xsi:type="dcterms:W3CDTF">2003-08-13T16:28:49Z</dcterms:modified>
  <cp:revision>53</cp:revision>
  <dc:subject/>
  <dc:title>Intro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virginia.edu/~jorg</vt:lpwstr>
  </property>
  <property fmtid="{D5CDD505-2E9C-101B-9397-08002B2CF9AE}" pid="9" name="LinkColor">
    <vt:r8>16711782</vt:r8>
  </property>
  <property fmtid="{D5CDD505-2E9C-101B-9397-08002B2CF9AE}" pid="10" name="MailAddress">
    <vt:lpwstr>jorg@cs.viriginia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M:\public_html\slid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