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32CC-5CCB-4BD4-B03B-44959398C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A7DC-0049-4F75-BD4B-B618BF2B5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-14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-144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2960" y="4416120"/>
            <a:ext cx="50306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FCE5-35CC-44E8-93A2-9126C01EB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6369-90CE-485B-9141-D79D53791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-14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-144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2960" y="4416120"/>
            <a:ext cx="50306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25DB-7B22-4C24-8D67-6E35F22F0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-14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-144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2960" y="4416120"/>
            <a:ext cx="50306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B203-D30E-4927-9D78-198D12D3B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A106-6E87-493A-8888-83EF697AE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97F5-0C02-4BF3-AD07-4421651DD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E4B6-243A-4CF2-BA63-B96AEFC85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3686-4021-4EF3-A94D-F8C70BF1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22B7-697C-405B-B4FC-F48B052E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7E02-1C18-4595-9F01-B22B6E4D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5B1A-16FE-45BB-8062-FE933215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77CC-2A88-429D-A374-79F40F2C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A8D0-EE48-493B-947B-228A03E5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D885-03C1-4565-A380-C766EEF6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ADB5-44AE-4D3B-B5CB-9E42FE0D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80A5-91EC-453E-A5B3-B1560E86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6416-FB24-4D9A-8C90-EA29BA1B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AF75-A4B8-4284-A3A4-D4B5D681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A5A3-BC81-426C-BF97-6A226509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8E25-3417-4851-8191-A3FAEBC1A6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oduction to TCP/IP networ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163.1.125.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device normally gets one (or m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heory there are about 4 billion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u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es a device know where to send a pack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devices need to know what IP addresses are on directly attached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destination is on a local network, send it directly t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uting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 destination address isn’t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non-router devices just send everything to a single local ro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uters need to know which network corresponds to each possible IP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location of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rolled centrally by IC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irly strict rules on further delegation to avoid was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to demonstrate actual need for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zations that got in early have bigger allocations than they really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P pa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rce and destination address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col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= ICMP, 6 = TCP, 17 = U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rious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to control frag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to live (TT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vent routing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 Dat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911240" y="1911240"/>
            <a:ext cx="673200" cy="29232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2597040" y="1911240"/>
            <a:ext cx="673200" cy="29232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282840" y="1911240"/>
            <a:ext cx="1282680" cy="29232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4578480" y="1911240"/>
            <a:ext cx="2654280" cy="29232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Total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1911240" y="2216160"/>
            <a:ext cx="265428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4578480" y="2216160"/>
            <a:ext cx="67284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5264280" y="2216160"/>
            <a:ext cx="196848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Fragment 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1911240" y="2521080"/>
            <a:ext cx="135900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TT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3282840" y="2521080"/>
            <a:ext cx="128268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4578480" y="2521080"/>
            <a:ext cx="265428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Header Check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1911240" y="2825640"/>
            <a:ext cx="5321520" cy="29232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ource Internet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1911240" y="3130560"/>
            <a:ext cx="532152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Destination Internet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1911240" y="3435480"/>
            <a:ext cx="402588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Option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5950080" y="3435480"/>
            <a:ext cx="128268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ad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9"/>
          <p:cNvSpPr/>
          <p:nvPr/>
        </p:nvSpPr>
        <p:spPr>
          <a:xfrm>
            <a:off x="1911240" y="3740040"/>
            <a:ext cx="5321520" cy="29232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Data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0"/>
          <p:cNvSpPr/>
          <p:nvPr/>
        </p:nvSpPr>
        <p:spPr>
          <a:xfrm>
            <a:off x="1813680" y="162396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1"/>
          <p:cNvSpPr/>
          <p:nvPr/>
        </p:nvSpPr>
        <p:spPr>
          <a:xfrm>
            <a:off x="2499480" y="162396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3185280" y="162396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3"/>
          <p:cNvSpPr/>
          <p:nvPr/>
        </p:nvSpPr>
        <p:spPr>
          <a:xfrm>
            <a:off x="4405320" y="162396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4"/>
          <p:cNvSpPr/>
          <p:nvPr/>
        </p:nvSpPr>
        <p:spPr>
          <a:xfrm>
            <a:off x="5089320" y="162396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5851440" y="162396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6918120" y="162396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7"/>
          <p:cNvGrpSpPr/>
          <p:nvPr/>
        </p:nvGrpSpPr>
        <p:grpSpPr>
          <a:xfrm>
            <a:off x="739440" y="4213080"/>
            <a:ext cx="8210160" cy="2223720"/>
            <a:chOff x="739440" y="4213080"/>
            <a:chExt cx="8210160" cy="2223720"/>
          </a:xfrm>
        </p:grpSpPr>
        <p:sp>
          <p:nvSpPr>
            <p:cNvPr id="138" name="Rectangle 28"/>
            <p:cNvSpPr/>
            <p:nvPr/>
          </p:nvSpPr>
          <p:spPr>
            <a:xfrm>
              <a:off x="739440" y="4213080"/>
              <a:ext cx="3999600" cy="20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Field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	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Purp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r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version numb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n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ngth of IP header (4 octet unit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O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ype of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.  Length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ngth of entire datagram (octet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dent.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datagram ID (for frag/reassembly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n’t/More frag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ag Off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agment Offs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9"/>
            <p:cNvSpPr/>
            <p:nvPr/>
          </p:nvSpPr>
          <p:spPr>
            <a:xfrm>
              <a:off x="5158800" y="4213080"/>
              <a:ext cx="3790800" cy="22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Field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	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Purp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me To Live - Max # of ho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igher level protocol (1=ICMP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=TCP, 17=UD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sum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sum for the IP hea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urce I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iginator’s Internet 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t. I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nal Destination Internet 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ption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urce route, time stamp, et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...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igher level protocol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30"/>
          <p:cNvSpPr/>
          <p:nvPr/>
        </p:nvSpPr>
        <p:spPr>
          <a:xfrm>
            <a:off x="671400" y="6211800"/>
            <a:ext cx="83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just need to know the IP addresses, TTL and protocol #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P Rou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3886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outing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stination IP addr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P address of a next-hop rou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la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twork interfac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371600" y="1523880"/>
            <a:ext cx="1295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371600" y="1981080"/>
            <a:ext cx="1295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371600" y="2438280"/>
            <a:ext cx="1295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371600" y="2895480"/>
            <a:ext cx="1295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019920" y="1600200"/>
            <a:ext cx="1295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6019920" y="2057400"/>
            <a:ext cx="1295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6019920" y="2514600"/>
            <a:ext cx="1295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6019920" y="2971800"/>
            <a:ext cx="1295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3733920" y="2438280"/>
            <a:ext cx="1295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733920" y="2895480"/>
            <a:ext cx="1295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4"/>
          <p:cNvSpPr/>
          <p:nvPr/>
        </p:nvSpPr>
        <p:spPr>
          <a:xfrm>
            <a:off x="1981080" y="335268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0"/>
                </a:moveTo>
                <a:lnTo>
                  <a:pt x="0" y="288"/>
                </a:lnTo>
                <a:lnTo>
                  <a:pt x="1296" y="288"/>
                </a:lnTo>
                <a:lnTo>
                  <a:pt x="1296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5"/>
          <p:cNvSpPr/>
          <p:nvPr/>
        </p:nvSpPr>
        <p:spPr>
          <a:xfrm>
            <a:off x="4648320" y="335268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0"/>
                </a:moveTo>
                <a:lnTo>
                  <a:pt x="0" y="288"/>
                </a:lnTo>
                <a:lnTo>
                  <a:pt x="1296" y="288"/>
                </a:lnTo>
                <a:lnTo>
                  <a:pt x="1296" y="48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1575360" y="1143000"/>
            <a:ext cx="9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968080" y="12193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3935880" y="205740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D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 layer on top of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ds packet length + checks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ard against corrupted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source and destinatio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rts are used to associate a packet with a specific application at each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ill unrelia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plication, loss, out-of-ordernes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DP dat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425840" y="2292480"/>
            <a:ext cx="265428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Destination 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758960" y="2292480"/>
            <a:ext cx="265428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ource 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758960" y="2901960"/>
            <a:ext cx="532116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Application 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661400" y="20048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4252680" y="200484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6765840" y="200484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4425840" y="2597040"/>
            <a:ext cx="2654280" cy="29232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Check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1758960" y="2597040"/>
            <a:ext cx="2654280" cy="29232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1271160" y="3832200"/>
            <a:ext cx="63921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ield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-bit port number identifying originating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ation 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-bit port number identifying destination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gth of UDP datagram (UDP header +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s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sum of IP pseudo header, UDP header,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ypical applications of UD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packet loss etc is better handled by the application than the network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the overhead of setting up a connection isn’t wa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FS – Network 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g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CP/IP protocol fami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P : Internet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DP : User Datagram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TP, tracero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CP : Transmission Control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, FTP, s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iable,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full-duple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connection-orient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rea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face presented to the application doesn’t require data in individual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is guaranteed to arrive, and in the correct order without du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the connection will be 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ses significant overh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pplications of 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thing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, FTP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ves the application a lot of work, so used unless there’s a good reason not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CP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nections are established using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ree-way handsh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a is divided up into packets by the operat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ckets are numbered, and received packets are acknowled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nections are explicitly clo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or may abnormally termin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CP Pa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+ destination 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quenc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knowledgement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ecks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arious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 Seg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4349880" y="1835280"/>
            <a:ext cx="265428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Destination 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1682640" y="2444760"/>
            <a:ext cx="532152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Acknowledgment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1682640" y="3359160"/>
            <a:ext cx="402588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Option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5721480" y="3359160"/>
            <a:ext cx="128268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ad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1682640" y="3664080"/>
            <a:ext cx="532152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Data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1585080" y="15476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2270880" y="15476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033720" y="154764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4176720" y="154764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4860720" y="154764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5622840" y="154764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6689520" y="154764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7"/>
          <p:cNvSpPr/>
          <p:nvPr/>
        </p:nvSpPr>
        <p:spPr>
          <a:xfrm>
            <a:off x="1682640" y="1835280"/>
            <a:ext cx="265428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ource 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8"/>
          <p:cNvSpPr/>
          <p:nvPr/>
        </p:nvSpPr>
        <p:spPr>
          <a:xfrm>
            <a:off x="4349880" y="2749680"/>
            <a:ext cx="265428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9"/>
          <p:cNvSpPr/>
          <p:nvPr/>
        </p:nvSpPr>
        <p:spPr>
          <a:xfrm>
            <a:off x="1682640" y="2749680"/>
            <a:ext cx="67320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0"/>
          <p:cNvSpPr/>
          <p:nvPr/>
        </p:nvSpPr>
        <p:spPr>
          <a:xfrm>
            <a:off x="1682640" y="2139840"/>
            <a:ext cx="5321520" cy="29232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equenc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1"/>
          <p:cNvSpPr/>
          <p:nvPr/>
        </p:nvSpPr>
        <p:spPr>
          <a:xfrm>
            <a:off x="2368440" y="2749680"/>
            <a:ext cx="90180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2"/>
          <p:cNvSpPr/>
          <p:nvPr/>
        </p:nvSpPr>
        <p:spPr>
          <a:xfrm>
            <a:off x="3282840" y="2749680"/>
            <a:ext cx="105408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4349880" y="3054240"/>
            <a:ext cx="2654280" cy="29232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Urgent Poi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4"/>
          <p:cNvSpPr/>
          <p:nvPr/>
        </p:nvSpPr>
        <p:spPr>
          <a:xfrm>
            <a:off x="1682640" y="3054240"/>
            <a:ext cx="2654280" cy="29232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Check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5"/>
          <p:cNvSpPr/>
          <p:nvPr/>
        </p:nvSpPr>
        <p:spPr>
          <a:xfrm>
            <a:off x="965880" y="3984480"/>
            <a:ext cx="617580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ield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Po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es originating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Po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es destination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e Numb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e number of first octet in the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ment #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e number of the next expected octet (if ACK flag s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of TCP header in 4 octet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g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 flags: SYN, FIN, RST, PSH, ACK, U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octets from ACK that sender will ac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um of IP pseudo-header + TCP header +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gent Poin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er to end of “urgent dat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TCP options such as MSS and Window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6"/>
          <p:cNvSpPr/>
          <p:nvPr/>
        </p:nvSpPr>
        <p:spPr>
          <a:xfrm>
            <a:off x="520560" y="6288120"/>
            <a:ext cx="83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just need to know port numbers, seq and ack are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CP : Data trans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3"/>
          <p:cNvSpPr/>
          <p:nvPr/>
        </p:nvSpPr>
        <p:spPr>
          <a:xfrm>
            <a:off x="3505320" y="175248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>
            <a:off x="5857920" y="175248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6545160" y="1447920"/>
            <a:ext cx="59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2362320" y="1447920"/>
            <a:ext cx="70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847880" y="1905120"/>
            <a:ext cx="14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end Pack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tart 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1560600" y="3749760"/>
            <a:ext cx="193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transmit Packe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tart 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3505320" y="205740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5940000" y="2149560"/>
            <a:ext cx="205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acket should arr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CK should be s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 flipH="1">
            <a:off x="3504960" y="2743200"/>
            <a:ext cx="236196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3505320" y="3657600"/>
            <a:ext cx="2361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1455840" y="2514600"/>
            <a:ext cx="197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CK would norm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rrive at this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5959080" y="3902040"/>
            <a:ext cx="166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ceive Pack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end AX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1916640" y="327672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ime Exp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 flipH="1">
            <a:off x="3504960" y="4191120"/>
            <a:ext cx="2361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1779120" y="4419720"/>
            <a:ext cx="14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ceive AC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ncel 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8"/>
          <p:cNvSpPr/>
          <p:nvPr/>
        </p:nvSpPr>
        <p:spPr>
          <a:xfrm>
            <a:off x="3809880" y="1905120"/>
            <a:ext cx="1752840" cy="68580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acket L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5181480" y="23623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685800" y="1676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6858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838080" y="16765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457560" y="2286000"/>
            <a:ext cx="772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6858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6858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83808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457560" y="3930480"/>
            <a:ext cx="772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Pv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28 bit 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it feasible to be very wasteful with address al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other 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ilt-in autoconfiguration, security option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really in production use y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th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mputer &lt;-&gt; Computer communication on sam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ach device has unique MAC address (48-b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ample: 00-C0-4F-48-47-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68840" y="3900600"/>
            <a:ext cx="29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thernet Pack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1725840" y="4481640"/>
            <a:ext cx="11300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5105520" y="4483080"/>
            <a:ext cx="19033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010280" y="4483080"/>
            <a:ext cx="9144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2819520" y="4481640"/>
            <a:ext cx="12207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4038480" y="4481640"/>
            <a:ext cx="10670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6451560" y="6324480"/>
            <a:ext cx="27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AC: Media Acces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1"/>
          <p:cNvSpPr/>
          <p:nvPr/>
        </p:nvSpPr>
        <p:spPr>
          <a:xfrm rot="16187400">
            <a:off x="2131920" y="4875120"/>
            <a:ext cx="304560" cy="1066680"/>
          </a:xfrm>
          <a:custGeom>
            <a:avLst/>
            <a:gdLst>
              <a:gd name="textAreaLeft" fmla="*/ 194760 w 304560"/>
              <a:gd name="textAreaRight" fmla="*/ 304920 w 3045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2"/>
          <p:cNvSpPr/>
          <p:nvPr/>
        </p:nvSpPr>
        <p:spPr>
          <a:xfrm rot="16187400">
            <a:off x="4419360" y="4876200"/>
            <a:ext cx="304920" cy="1067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1838880" y="5562720"/>
            <a:ext cx="84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3057840" y="5562720"/>
            <a:ext cx="84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5"/>
          <p:cNvSpPr/>
          <p:nvPr/>
        </p:nvSpPr>
        <p:spPr>
          <a:xfrm>
            <a:off x="4124880" y="5562720"/>
            <a:ext cx="8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6"/>
          <p:cNvSpPr/>
          <p:nvPr/>
        </p:nvSpPr>
        <p:spPr>
          <a:xfrm rot="16187400">
            <a:off x="3274920" y="479880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487080" y="4483080"/>
            <a:ext cx="13298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eam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8"/>
          <p:cNvSpPr/>
          <p:nvPr/>
        </p:nvSpPr>
        <p:spPr>
          <a:xfrm rot="16187400">
            <a:off x="990360" y="4800240"/>
            <a:ext cx="304920" cy="1218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695880" y="5562720"/>
            <a:ext cx="8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8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"/>
          <p:cNvSpPr/>
          <p:nvPr/>
        </p:nvSpPr>
        <p:spPr>
          <a:xfrm rot="16187400">
            <a:off x="5904000" y="4456080"/>
            <a:ext cx="304560" cy="1905120"/>
          </a:xfrm>
          <a:custGeom>
            <a:avLst/>
            <a:gdLst>
              <a:gd name="textAreaLeft" fmla="*/ 194760 w 304560"/>
              <a:gd name="textAreaRight" fmla="*/ 304920 w 30456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1"/>
          <p:cNvSpPr/>
          <p:nvPr/>
        </p:nvSpPr>
        <p:spPr>
          <a:xfrm>
            <a:off x="5321520" y="5562720"/>
            <a:ext cx="160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64 - 1500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2"/>
          <p:cNvSpPr/>
          <p:nvPr/>
        </p:nvSpPr>
        <p:spPr>
          <a:xfrm rot="16187400">
            <a:off x="7314840" y="495396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7248960" y="5562720"/>
            <a:ext cx="8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4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4"/>
          <p:cNvSpPr/>
          <p:nvPr/>
        </p:nvSpPr>
        <p:spPr>
          <a:xfrm>
            <a:off x="520560" y="628812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worry about this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RP : Address Resolution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610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RP provides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2bit IP address &lt;-&gt; 48bit MAC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28.97.89.153  &lt;-&gt; 00-C0-4F-48-47-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RP ca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intains the recent mappings from IP addresses to MAC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RP request broadcast on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stination host ARP layer resp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520560" y="628812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worry about this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H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ynamic Host Configuration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to tell a computer what IP address to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ice broadcasts a request from IP 0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it had an IP address before, asks for the same one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er (or relay) on local network responds telling it which to use (or ignores it, or tells it go aw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se time” telling it how long that IP will be valid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ice requests renewal of lease after ¾(?) elap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520560" y="628812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worry about this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n inter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et of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necte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ternet is the most famous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s can be completely 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thernet, ATM, modem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TCP/)IP is what links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n internet?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oute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re devices on multiple networks that pass traffic between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vidual networks pass traffic from one router or endpoint to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CP/IP hides the details as much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SO/OSI Network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ven network “layer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yer 1 : Physical – cab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yer 2 : Data Link – 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yer 3 : Network – 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yer 4 : Transport – TCP/U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yer 5 : Ses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yer 6 : Presen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yer 7 :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31840" y="6172200"/>
            <a:ext cx="87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don’t need to know the layers just the idea that it is lay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CP/IP Network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view – 4 la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yer 1 : Lin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yer 2 : Net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yer 3 : Trans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yer 4 : Applica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SI and Protocol St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5802480" y="457200"/>
            <a:ext cx="32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SI: Open Systems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609480" y="1238400"/>
            <a:ext cx="8076960" cy="4248000"/>
            <a:chOff x="609480" y="1238400"/>
            <a:chExt cx="8076960" cy="4248000"/>
          </a:xfrm>
        </p:grpSpPr>
        <p:pic>
          <p:nvPicPr>
            <p:cNvPr id="63" name="Picture 5" descr="fig08"/>
            <p:cNvPicPr/>
            <p:nvPr/>
          </p:nvPicPr>
          <p:blipFill>
            <a:blip r:embed="rId1"/>
            <a:stretch/>
          </p:blipFill>
          <p:spPr>
            <a:xfrm>
              <a:off x="609480" y="1238400"/>
              <a:ext cx="8076960" cy="42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6"/>
            <p:cNvSpPr/>
            <p:nvPr/>
          </p:nvSpPr>
          <p:spPr>
            <a:xfrm>
              <a:off x="1066680" y="1390680"/>
              <a:ext cx="12952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OSI 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7"/>
            <p:cNvSpPr/>
            <p:nvPr/>
          </p:nvSpPr>
          <p:spPr>
            <a:xfrm>
              <a:off x="2971440" y="1390680"/>
              <a:ext cx="15242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TCP/IP Hierarc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5790960" y="1390680"/>
              <a:ext cx="15238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Protoco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9"/>
            <p:cNvSpPr/>
            <p:nvPr/>
          </p:nvSpPr>
          <p:spPr>
            <a:xfrm>
              <a:off x="914040" y="1787400"/>
              <a:ext cx="16002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7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ＭＳ Ｐゴシック"/>
                </a:rPr>
                <a:t>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Application 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0"/>
            <p:cNvSpPr/>
            <p:nvPr/>
          </p:nvSpPr>
          <p:spPr>
            <a:xfrm>
              <a:off x="914040" y="2305080"/>
              <a:ext cx="16002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6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ＭＳ Ｐゴシック"/>
                </a:rPr>
                <a:t>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Presentation 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914040" y="2800440"/>
              <a:ext cx="16002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5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ＭＳ Ｐゴシック"/>
                </a:rPr>
                <a:t>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Session 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2"/>
            <p:cNvSpPr/>
            <p:nvPr/>
          </p:nvSpPr>
          <p:spPr>
            <a:xfrm>
              <a:off x="914040" y="3308400"/>
              <a:ext cx="16002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ＭＳ Ｐゴシック"/>
                </a:rPr>
                <a:t>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Transport 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3"/>
            <p:cNvSpPr/>
            <p:nvPr/>
          </p:nvSpPr>
          <p:spPr>
            <a:xfrm>
              <a:off x="914040" y="3828960"/>
              <a:ext cx="16002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ＭＳ Ｐゴシック"/>
                </a:rPr>
                <a:t>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Network 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4"/>
            <p:cNvSpPr/>
            <p:nvPr/>
          </p:nvSpPr>
          <p:spPr>
            <a:xfrm>
              <a:off x="914040" y="4336920"/>
              <a:ext cx="16002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2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ＭＳ Ｐゴシック"/>
                </a:rPr>
                <a:t>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Link 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5"/>
            <p:cNvSpPr/>
            <p:nvPr/>
          </p:nvSpPr>
          <p:spPr>
            <a:xfrm>
              <a:off x="914040" y="4870440"/>
              <a:ext cx="16002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1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ＭＳ Ｐゴシック"/>
                </a:rPr>
                <a:t>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Physical 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2895480" y="2379600"/>
              <a:ext cx="1523880" cy="36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Application 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7"/>
            <p:cNvSpPr/>
            <p:nvPr/>
          </p:nvSpPr>
          <p:spPr>
            <a:xfrm>
              <a:off x="2895480" y="3319200"/>
              <a:ext cx="1523880" cy="36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Transport 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8"/>
            <p:cNvSpPr/>
            <p:nvPr/>
          </p:nvSpPr>
          <p:spPr>
            <a:xfrm>
              <a:off x="2895480" y="3827520"/>
              <a:ext cx="1523880" cy="36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Network 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9"/>
            <p:cNvSpPr/>
            <p:nvPr/>
          </p:nvSpPr>
          <p:spPr>
            <a:xfrm>
              <a:off x="2895480" y="4629240"/>
              <a:ext cx="1523880" cy="36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Link 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20"/>
          <p:cNvSpPr/>
          <p:nvPr/>
        </p:nvSpPr>
        <p:spPr>
          <a:xfrm>
            <a:off x="457200" y="553896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ink Layer           : includes device driver and network interface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etwork Layer     : handles the movement of packets, i.e.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ransport Layer   : provides a reliable flow of data between two 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pplication Layer : handles the details of the particular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cket Encapsu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encapsulation"/>
          <p:cNvPicPr/>
          <p:nvPr/>
        </p:nvPicPr>
        <p:blipFill>
          <a:blip r:embed="rId1"/>
          <a:stretch/>
        </p:blipFill>
        <p:spPr>
          <a:xfrm>
            <a:off x="1676520" y="2133720"/>
            <a:ext cx="5268960" cy="38671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228600" y="1143000"/>
            <a:ext cx="86104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 data is sent down the protocol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ach layer adds to the data by prepending h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743200" y="5791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429000" y="5791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4152960" y="5791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4826160" y="5791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6172200" y="5791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6934320" y="5791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1"/>
          <p:cNvSpPr/>
          <p:nvPr/>
        </p:nvSpPr>
        <p:spPr>
          <a:xfrm>
            <a:off x="2743200" y="5943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2647800" y="594360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2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3454560" y="5943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3368520" y="594360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0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4152960" y="5943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4095360" y="594360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0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6155280" y="594360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4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8"/>
          <p:cNvSpPr/>
          <p:nvPr/>
        </p:nvSpPr>
        <p:spPr>
          <a:xfrm>
            <a:off x="6172200" y="5943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9"/>
          <p:cNvSpPr/>
          <p:nvPr/>
        </p:nvSpPr>
        <p:spPr>
          <a:xfrm>
            <a:off x="3429000" y="6248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0"/>
          <p:cNvSpPr/>
          <p:nvPr/>
        </p:nvSpPr>
        <p:spPr>
          <a:xfrm>
            <a:off x="6172200" y="6248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4091400" y="640080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64 to 1500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2"/>
          <p:cNvSpPr/>
          <p:nvPr/>
        </p:nvSpPr>
        <p:spPr>
          <a:xfrm>
            <a:off x="3429000" y="6400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ponsible for end to end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ds data in individual pa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ximum size of packet is determined by the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agmented if too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rel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ckets might be lost, corrupted, duplicated, delivered out of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16:03:15Z</dcterms:created>
  <dc:creator>Ganesh Sittampalam</dc:creator>
  <dc:description/>
  <dc:language>en-US</dc:language>
  <cp:lastModifiedBy>Hossain Shahriar</cp:lastModifiedBy>
  <dcterms:modified xsi:type="dcterms:W3CDTF">2019-08-07T18:23:08Z</dcterms:modified>
  <cp:revision>21</cp:revision>
  <dc:subject/>
  <dc:title>Introduction to TCP/IP networking</dc:title>
</cp:coreProperties>
</file>